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DF09-5F69-4F84-B717-2E4F0C3B0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72D3-612A-41C8-911A-E288E513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A479-05C1-450E-948C-108B23315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16D5-7B11-46CC-9CE6-5A4EA1000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DF01-1FEF-43CF-8E41-DC0A29B9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E657-12F8-4B04-A5EB-15626694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A51A-88B4-433E-AC76-9ECA5C75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C80A-F08F-4B9E-B2FB-E1684759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838F-558E-4872-AE46-E5AFCB60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19B0-C43F-475E-A533-DD22A1D9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A0FA-82E7-42C0-BDB1-D8014A1C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86D5-FC0B-4F35-AF92-2584C5FC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4060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itstream Vera San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ffffff"/>
              </a:buClr>
              <a:buFont typeface="Bitstream Vera San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itstream Vera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680" indent="-281160">
              <a:spcBef>
                <a:spcPts val="799"/>
              </a:spcBef>
              <a:buClr>
                <a:srgbClr val="ffffff"/>
              </a:buClr>
              <a:buFont typeface="Bitstream Vera Sans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itstream Vera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Bitstream Vera San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itstream Vera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Bitstream Vera Sans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itstream Vera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Bitstream Vera Sans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itstream Vera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Bitstream Vera Sans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itstream Vera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Bitstream Vera Sans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itstream Vera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82DD89-BF6B-4698-B134-1460A1B0309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4060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47760"/>
            <a:ext cx="4114800" cy="25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itstream Vera Sans"/>
              </a:rPr>
              <a:t>POWER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Bitstream Vera Sans"/>
              </a:rPr>
              <a:t>POINT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Bitstream Vera Sans"/>
              </a:rPr>
              <a:t>KARAOKE</a:t>
            </a:r>
            <a:endParaRPr b="0" lang="en-US" sz="5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80720" y="57891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itstream Vera Sans"/>
                <a:ea typeface="DejaVu Sans"/>
              </a:rPr>
              <a:t>gulaschprogrammiernacht7</a:t>
            </a: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4060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98720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itstream Vera Sans"/>
              </a:rPr>
              <a:t>LET’S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Bitstream Vera Sans"/>
              </a:rPr>
              <a:t>GO!</a:t>
            </a:r>
            <a:endParaRPr b="0" lang="en-US" sz="5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720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itstream Vera Sans"/>
              </a:rPr>
              <a:t>WI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Bitstream Vera Sans"/>
              </a:rPr>
              <a:t>ERKLÄREN.</a:t>
            </a:r>
            <a:endParaRPr b="0" lang="en-US" sz="5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60a1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91120" y="82080"/>
            <a:ext cx="495288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itstream Vera Sans"/>
              </a:rPr>
              <a:t>DAS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Bitstream Vera Sans"/>
              </a:rPr>
              <a:t>PRINZIP</a:t>
            </a:r>
            <a:endParaRPr b="0" lang="en-US" sz="4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35049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r">
              <a:lnSpc>
                <a:spcPct val="90000"/>
              </a:lnSpc>
              <a:spcBef>
                <a:spcPts val="799"/>
              </a:spcBef>
              <a:buClr>
                <a:srgbClr val="cc00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itstream Vera Sans"/>
              </a:rPr>
              <a:t>freiwillige vor!</a:t>
            </a: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  <a:p>
            <a:pPr marL="341280" indent="-341280" algn="r">
              <a:lnSpc>
                <a:spcPct val="90000"/>
              </a:lnSpc>
              <a:spcBef>
                <a:spcPts val="799"/>
              </a:spcBef>
              <a:buClr>
                <a:srgbClr val="cc00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itstream Vera Sans"/>
              </a:rPr>
              <a:t>freie auswahl</a:t>
            </a: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  <a:p>
            <a:pPr marL="341280" indent="-341280" algn="r">
              <a:lnSpc>
                <a:spcPct val="90000"/>
              </a:lnSpc>
              <a:spcBef>
                <a:spcPts val="799"/>
              </a:spcBef>
              <a:buClr>
                <a:srgbClr val="cc00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itstream Vera Sans"/>
              </a:rPr>
              <a:t>freie quellen</a:t>
            </a: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  <a:p>
            <a:pPr marL="341280" indent="-341280" algn="r">
              <a:lnSpc>
                <a:spcPct val="90000"/>
              </a:lnSpc>
              <a:spcBef>
                <a:spcPts val="799"/>
              </a:spcBef>
              <a:buClr>
                <a:srgbClr val="cc00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itstream Vera Sans"/>
              </a:rPr>
              <a:t>freier vortrag</a:t>
            </a: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  <a:p>
            <a:pPr marL="341280" indent="-341280" algn="r">
              <a:lnSpc>
                <a:spcPct val="90000"/>
              </a:lnSpc>
              <a:spcBef>
                <a:spcPts val="799"/>
              </a:spcBef>
              <a:buClr>
                <a:srgbClr val="cc00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itstream Vera Sans"/>
              </a:rPr>
              <a:t>freies timing</a:t>
            </a: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  <a:p>
            <a:pPr marL="341280" indent="-341280" algn="r">
              <a:lnSpc>
                <a:spcPct val="90000"/>
              </a:lnSpc>
              <a:spcBef>
                <a:spcPts val="799"/>
              </a:spcBef>
              <a:buClr>
                <a:srgbClr val="cc00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itstream Vera Sans"/>
              </a:rPr>
              <a:t>freie preise</a:t>
            </a: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8181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7760" y="1987560"/>
            <a:ext cx="5562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itstream Vera Sans"/>
              </a:rPr>
              <a:t>DI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Bitstream Vera Sans"/>
              </a:rPr>
              <a:t>JURY</a:t>
            </a:r>
            <a:endParaRPr b="0" lang="en-US" sz="4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38858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itstream Vera Sans"/>
              </a:rPr>
              <a:t>unfehlbar</a:t>
            </a: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itstream Vera Sans"/>
              </a:rPr>
              <a:t>unbeirrbar</a:t>
            </a: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itstream Vera Sans"/>
              </a:rPr>
              <a:t>unparteiisch</a:t>
            </a: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itstream Vera Sans"/>
              </a:rPr>
              <a:t>unbestechlich</a:t>
            </a: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itstream Vera Sans"/>
              </a:rPr>
              <a:t>unbarmherzig</a:t>
            </a:r>
            <a:endParaRPr b="0" lang="en-US" sz="32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8720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itstream Vera Sans"/>
              </a:rPr>
              <a:t>WIR HABEN HOHE </a:t>
            </a:r>
            <a:r>
              <a:rPr b="1" lang="en-US" sz="5400" spc="-1" strike="noStrike">
                <a:solidFill>
                  <a:srgbClr val="ffffff"/>
                </a:solidFill>
                <a:latin typeface="Bitstream Vera Sans"/>
              </a:rPr>
              <a:t>ERWARTUNGEN.</a:t>
            </a:r>
            <a:endParaRPr b="0" lang="en-US" sz="54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4000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4669920"/>
            <a:ext cx="556272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itstream Vera Sans"/>
              </a:rPr>
              <a:t>HERVORRAGENDE</a:t>
            </a:r>
            <a:br>
              <a:rPr sz="4200"/>
            </a:br>
            <a:r>
              <a:rPr b="1" lang="en-US" sz="4400" spc="-1" strike="noStrike">
                <a:solidFill>
                  <a:srgbClr val="ffffff"/>
                </a:solidFill>
                <a:latin typeface="Bitstream Vera Sans"/>
              </a:rPr>
              <a:t>VORBEREITUNG</a:t>
            </a:r>
            <a:endParaRPr b="0" lang="en-US" sz="4400" spc="-1" strike="noStrike">
              <a:solidFill>
                <a:srgbClr val="ffffff"/>
              </a:solidFill>
              <a:latin typeface="Bitstream Vera Sans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90920" y="990720"/>
            <a:ext cx="5257800" cy="36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a120"/>
            </a:gs>
            <a:gs pos="100000">
              <a:srgbClr val="cc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31440"/>
            <a:ext cx="510552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itstream Vera Sans"/>
              </a:rPr>
              <a:t>EIN SOUVERÄNER</a:t>
            </a:r>
            <a:br>
              <a:rPr sz="4200"/>
            </a:br>
            <a:r>
              <a:rPr b="1" lang="en-US" sz="4400" spc="-1" strike="noStrike">
                <a:solidFill>
                  <a:srgbClr val="ffffff"/>
                </a:solidFill>
                <a:latin typeface="Bitstream Vera Sans"/>
              </a:rPr>
              <a:t>VORTRAGSSTIL</a:t>
            </a:r>
            <a:endParaRPr b="0" lang="en-US" sz="4400" spc="-1" strike="noStrike">
              <a:solidFill>
                <a:srgbClr val="ffffff"/>
              </a:solidFill>
              <a:latin typeface="Bitstream Vera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48320" y="3048120"/>
            <a:ext cx="3962160" cy="32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100000">
              <a:srgbClr val="95957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5416560"/>
            <a:ext cx="861048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itstream Vera Sans"/>
              </a:rPr>
              <a:t>VERSTÄNDLICH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Bitstream Vera Sans"/>
              </a:rPr>
              <a:t>PRÄSENTATION(SFOLIEN)</a:t>
            </a:r>
            <a:r>
              <a:rPr b="1" lang="en-US" sz="4400" spc="-1" strike="noStrike">
                <a:solidFill>
                  <a:srgbClr val="ffffff"/>
                </a:solidFill>
                <a:latin typeface="Bitstream Vera Sans"/>
              </a:rPr>
              <a:t>‏</a:t>
            </a:r>
            <a:endParaRPr b="0" lang="en-US" sz="4400" spc="-1" strike="noStrike">
              <a:solidFill>
                <a:srgbClr val="ffffff"/>
              </a:solidFill>
              <a:latin typeface="Bitstream Vera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7110360" cy="5079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86000" y="1676520"/>
            <a:ext cx="1143000" cy="761760"/>
          </a:xfrm>
          <a:prstGeom prst="line">
            <a:avLst/>
          </a:prstGeom>
          <a:ln w="57240">
            <a:solidFill>
              <a:srgbClr val="cc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198600" y="3124080"/>
            <a:ext cx="384120" cy="381240"/>
          </a:xfrm>
          <a:prstGeom prst="line">
            <a:avLst/>
          </a:prstGeom>
          <a:ln w="38160">
            <a:solidFill>
              <a:srgbClr val="cc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3048120"/>
            <a:ext cx="1981080" cy="380880"/>
          </a:xfrm>
          <a:prstGeom prst="line">
            <a:avLst/>
          </a:prstGeom>
          <a:ln w="3816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 rot="16200000">
            <a:off x="7047000" y="1790640"/>
            <a:ext cx="8380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2000"/>
          </a:bodyPr>
          <a:p>
            <a:pPr marL="109080" indent="0" algn="r">
              <a:spcBef>
                <a:spcPts val="937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de-DE" sz="15000" spc="-1" strike="noStrike">
                <a:solidFill>
                  <a:srgbClr val="cc00ff"/>
                </a:solidFill>
                <a:latin typeface="Bitstream Vera Sans"/>
              </a:rPr>
              <a:t>{</a:t>
            </a:r>
            <a:endParaRPr b="0" lang="en-US" sz="150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00a1"/>
            </a:gs>
            <a:gs pos="100000">
              <a:srgbClr val="cc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82080"/>
            <a:ext cx="624852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itstream Vera Sans"/>
              </a:rPr>
              <a:t>AUSSAGEKRÄFTIG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Bitstream Vera Sans"/>
              </a:rPr>
              <a:t>ILLUSTRATIONEN</a:t>
            </a:r>
            <a:endParaRPr b="0" lang="en-US" sz="4400" spc="-1" strike="noStrike">
              <a:solidFill>
                <a:srgbClr val="ffffff"/>
              </a:solidFill>
              <a:latin typeface="Bitstream Vera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352680" y="1676520"/>
            <a:ext cx="5369040" cy="4786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.</dc:creator>
  <dc:description/>
  <dc:language>en-US</dc:language>
  <cp:lastModifiedBy>fnord</cp:lastModifiedBy>
  <cp:revision>0</cp:revision>
  <dc:subject/>
  <dc:title>POWERPOINT KARAOKE</dc:title>
</cp:coreProperties>
</file>