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939-7F83-4C3D-8088-8B00B8F2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B14-CD4E-4271-8744-6F97291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365-50F4-4B6C-BF4C-1A715C4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74F-618A-480A-AC71-3793ABAF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FB0-0C3F-425B-B9A5-ACFD3308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828-6ED1-4B96-AD2F-BC1CBF5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DC2-A92A-4C17-8141-54B97383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AE5-3FAC-42FE-843F-7C92990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E85-23EC-446E-BD44-D4E0027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257-6433-464F-B402-78F1072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165-CDEF-4987-AD39-90DDB56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30D-1E07-4EE2-849C-5BD8FB5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ff"/>
              </a:buClr>
              <a:buFont typeface="Bitstream Vera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680" indent="-281160">
              <a:spcBef>
                <a:spcPts val="799"/>
              </a:spcBef>
              <a:buClr>
                <a:srgbClr val="ffffff"/>
              </a:buClr>
              <a:buFont typeface="Bitstream Vera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76A43A-1E73-4D83-939B-3BBF27DB1F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7760"/>
            <a:ext cx="4114800" cy="25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POWER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POI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KARAOKE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0720" y="5789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  <a:ea typeface="DejaVu Sans"/>
              </a:rPr>
              <a:t>gulaschprogrammiernacht7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LET’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GO!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W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ERKLÄREN.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60a1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82080"/>
            <a:ext cx="49528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DA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PRINZIP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3504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willige vor!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auswah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quellen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r vortra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s timin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preise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8181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1987560"/>
            <a:ext cx="5562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DI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JURY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fehlbar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eirrbar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parteiisch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estechlich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armherzi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WIR HABEN HOHE </a:t>
            </a: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ERWARTUNGEN.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4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669920"/>
            <a:ext cx="5562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itstream Vera Sans"/>
              </a:rPr>
              <a:t>HERVORRAGENDE</a:t>
            </a:r>
            <a:br>
              <a:rPr sz="42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VORBEREITUNG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525780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12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51055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itstream Vera Sans"/>
              </a:rPr>
              <a:t>EIN SOUVERÄNER</a:t>
            </a:r>
            <a:br>
              <a:rPr sz="42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VORTRAGSSTIL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96216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9595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16560"/>
            <a:ext cx="86104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VERSTÄNDLICH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PRÄSENTATION(SFOLIEN)</a:t>
            </a: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‏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11036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0" y="1676520"/>
            <a:ext cx="1143000" cy="761760"/>
          </a:xfrm>
          <a:prstGeom prst="line">
            <a:avLst/>
          </a:prstGeom>
          <a:ln w="57240">
            <a:solidFill>
              <a:srgbClr val="cc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98600" y="3124080"/>
            <a:ext cx="384120" cy="38124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048120"/>
            <a:ext cx="1981080" cy="3808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 rot="16200000">
            <a:off x="7047000" y="1790640"/>
            <a:ext cx="838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0" algn="r">
              <a:spcBef>
                <a:spcPts val="9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DE" sz="15000" spc="-1" strike="noStrike">
                <a:solidFill>
                  <a:srgbClr val="cc00ff"/>
                </a:solidFill>
                <a:latin typeface="Bitstream Vera Sans"/>
              </a:rPr>
              <a:t>{</a:t>
            </a:r>
            <a:endParaRPr b="0" lang="en-US" sz="15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00a1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82080"/>
            <a:ext cx="6248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AUSSAGEKRÄFTIG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ILLUSTRATIONEN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369040" cy="47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</dc:creator>
  <dc:description/>
  <dc:language>en-US</dc:language>
  <cp:lastModifiedBy>fnord</cp:lastModifiedBy>
  <cp:revision>0</cp:revision>
  <dc:subject/>
  <dc:title>POWERPOINT KARAOKE</dc:title>
</cp:coreProperties>
</file>