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1038-EA6D-47D4-9233-580EC864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24E7-57BA-4A9A-A934-26CFFAD8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B1AC-EA42-416D-84D2-F3E68AE3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7CA3-A52F-48A2-8AC5-01FC007B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2F8-52B2-40DE-8959-DB0F1942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C365-4793-44D6-BC3C-8107458B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135F-1B0A-46B8-B94B-8C9A82AD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9E8D-E34E-4150-8D61-4109F02A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2113-FE17-4E55-8637-728CC72B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AAD4-2FF7-449D-909E-B1BDCD07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58DD-4EF9-41FA-A067-D929A24C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19CC-80A2-41DE-9DEA-AC310EC0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DB8C-7FC4-450D-918E-FF49125F1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zwerkprogrammieru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 Proto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820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routines i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to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ventbasierte Netzwerkprogramm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tzwerkprogrammierung mit Proto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rout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 ist stark an die Stackcall-struktur gekoppelt. Es ist dort nicht einfach, sich von dem normalen Funktionsaufruf zu entkoppe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e Möglichkeit ist setjmp/longjmp zu verwenden: nicht einfach portabel, verbraucht Speicher (speicher stack-Environ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routines in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wir wollen, ist ein Funktion, die sich merkt, an welcher Stelle return benutzt wu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m nächsten Aufruf wird an der Stelle fortgesetz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.B. würde folgende Funktion 10 mal hintereinander aufgerufen die Werte 0, 1, 2, 3, 4, 5, 6, 7, 8, 9 zurückgeb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int bla(void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for (i=0; i &lt; 10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return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routines in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routines in C könnte man z.B. mit goto statements implementieren. Eine Variable merkt sich der letzte „Zustand“, und ein switch() am Anfang springt an die richtige Stelle (i ist jetzt übrigens static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function(void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int i, state = 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witch (stat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se 0: goto LABEL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se 1: goto LABEL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BEL0: /* start of function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 = 0; i &lt; 10; i++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 = 1; /* so we will come back to LABEL1 */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i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BEL1: /* resume control straight after the return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routines in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ist immer noch ein wenig viel Overhead (state und switch und gotos verwalten), zum Glück kann man in C switch missbrauchen, um gleich noch den goto mitzuma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function(void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int i, state = 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witch (stat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se 0: /* start of function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 = 0; i &lt; 10; i++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i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se 1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resume control straight after the return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routines in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t Makros kann man jetzt die ganze Hässlichkeit gekonnt versteck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crBegin static int state=0; switch(state) { case 0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crReturn(i,x) do { state=i; return x; case i:; } while (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crFinish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function(void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int i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rBegin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 = 0; i &lt; 10; i++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rReturn(1, i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rFinish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routines in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n hässlichen Parameter für crReturn können wir auch gleich durch __LINE__ ersetz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define crReturn(x) do { state=__LINE__; return x; \ case __LINE__:; } while (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ekomprimierungsroutine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tzt kann man den Dekompressor als Routine hinschreiben, er sieht fast genauso aus wie am Anfa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decompressor(void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ic int c, len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rBegin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1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= getchar(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c == EOF) break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c == 0xFF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en = getchar(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= getchar(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len--) crReturn(c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rReturn(c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rReturn(EOF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rFinish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roto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roto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tothreads ist eine Implementierung des C-Coroutines-Trick, als Thread-library gefas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eine richtigen Threads in dem Sinne, also nicht preemptives Threading, sondern kooperatives Th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eder Thread muss „yielden“, wenn er nichts zu tun 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roto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Yield bei Protothreads ist einfach ein Return, jeder Thread ist eine Koroutine, und wird beim nächsten Aufruf an der vorigen Stelle weitergefüh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eder Thread speichert nur die „state“ Variable von vorhin -&gt; 2 Bytes Speicher pro „Thread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Library besteht eigentlich aus den Macros, die wir vorhin gesehen ha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routines in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rotothreads-Beisp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include "pt.h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uct pt p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uct timer time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flag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T_THREAD(example(struct pt *pt)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T_BEGIN(pt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1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r_restart(&amp;timer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T_WAIT_UNTIL(pt, timer_expired(&amp;timer));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lag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r_restart(&amp;timer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T_WAIT_UNTIL(pt, !flag || timer_expired(&amp;timer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igger_event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T_END(pt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rotothreads API-Übersi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ruct pt *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ält den jetzigen Coroutinen-Zustand fest (2 Bytes, der Stack wird nicht gespeich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T_INIT(struct pt *p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tothreads-struktur initialisieren (state Parameter zurücksetz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T_BEGIN(struct pt *p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witch-struktur für die C-Koroutine einsetzen. Alles was vor PT_BEGIN steht wird beim jedem Thread-schedulen ausgefüh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T_END(struct pt *p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liessen einer Switch-Struktur für die C-Korou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rotothreads API-Übersi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T_EXIT(struct pt *p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Protothreads verlassen (return mit Code PT_EX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T_WAIT_UNTIL(struct pt *pt, cond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lassen mit code PT_WAITING, wenn die condition falsch. Beim nächsten Schedulen des Threads wird dieser Check auch wieder ausgefüh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T_SPAWN(struct pt *parent, struct pt *child,  th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hrt den child Thread aus bis er verlassen w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rotothreads-Beisp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fache reliable Kommunikation (mit Time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T_THREAD(sender(struct pt *pt)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T_BEGIN(pt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nd_packet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er_set(&amp;timer, TIMEOUT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T_WAIT_UNTIL(pt, acknowledgment_received() ||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er_expired(&amp;timer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while(timer_expired(&amp;timer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T_END(pt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rotothreads-Beisp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T_THREAD(receiver(struct pt *pt)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T_BEGIN(pt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T_WAIT_UNTIL(pt, packet_received()); send_acknowledgement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T_END(pt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ventbasierte Netzwerkprogrammie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ntbasiertes Netzwerkprogram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tzwerkserver in einem 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ke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öffnen, bind(), listen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istening-Socket aufnehmen in Eventloop (z.B. mit select()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i Connect, Clientsocket aufmachen, Socket auf NONBLOCKING setzen, in Eventloop aufneh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i Events auf dem Clientsocket Client-State-Machine durchlau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ventbasiertes Netzwerkprogram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ispiel: SMTP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vent kann sein: 3 bytes angeko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temachine muss input-Buffer verwalten (erst wenn eine Zeile im Inputbuffer kann diese geparst werd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low-Control von der Applikation ist dann recht kompliziert (State für jedes Kommando, oder vorgeschalteter Tokeniz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Netzwerkprogrammierung mit Proto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rotothreads für Netz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ier kann jetzt für Lesen von Netzwerkdaten eine Koroutine aufgerufen werden, die den Eingangspuffer fül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Protokollroutine kann also so hingeschrieben werden, als würde ein blockierendes Lesen pass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n muss allerdings aufpassen, dass die Inputpuffer getrennt bleiben, also pro Verbindung ein eigener Lesethread oder Schreibethread mit eigenem P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rout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Ähnliche Probleme hat man z.B. bei Parsern, oder Code der ein Inputstream verarbeitet, und ihn weitergi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.B. könnten wir eine Dekompressionsroutine haben, und einen Par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Netzwerkprogrammierungsbeispiel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(lc-test.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ekompressions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* Decompression code *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1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 = getchar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c == EOF) brea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c == 0xFF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en = getchar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 = getchar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len--) emit(c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it(c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it(EOF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arser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* Parser code *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1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 = getchar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c == EOF) brea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salpha(c)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 { add_to_token(c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 = getchar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while (isalpha(c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ot_token(WORD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_to_token(c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ot_token(PUNCT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rout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arser und Dekomprimierer sind beide einfach zu verste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och... Wie kombiniert man jetzt be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e Möglichkeit ist, entweder den Parser oder den Dekomprimierer neu zu schreiben, damit er jeweils von der anderen Funktion aufgerufen werden k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ekompressionsroutin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decompressor(void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int repcha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int reple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eplen &gt; 0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len--; return repcha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 = getchar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 == EOF) return EOF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 == 0xFF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len = getchar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char = getchar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len--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pcha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return c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rout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andere Möglichkeit ist, das Programm nicht mehr so zu strukturieren, dass der eine Teil den anderen aufruft, sondern dass beide Funktionen „Koroutinen“ s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 dem Aufruf der anderen Koroutine wird jeweils der aktuelle lokale Zustand gespeichert, und bei dem nächsten Aufruf der Koroutine wird von dem Punkt an weitergemac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rout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1989000"/>
            <a:ext cx="16560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kompr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03640" y="2781360"/>
            <a:ext cx="1656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2781360"/>
            <a:ext cx="24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2349360"/>
            <a:ext cx="192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return repch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3573360"/>
            <a:ext cx="16560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kompr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555640" y="3573360"/>
            <a:ext cx="24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50160" y="3213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60720" y="2852640"/>
            <a:ext cx="20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_to_toke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te = IN_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03640" y="4365720"/>
            <a:ext cx="1656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56000" y="4365720"/>
            <a:ext cx="24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16360" y="3933720"/>
            <a:ext cx="192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return repch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34880" y="4653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t_toke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5440" y="55897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1:38:19Z</dcterms:created>
  <dc:creator>blop</dc:creator>
  <dc:description/>
  <dc:language>en-US</dc:language>
  <cp:lastModifiedBy>blop</cp:lastModifiedBy>
  <dcterms:modified xsi:type="dcterms:W3CDTF">2005-04-03T13:31:48Z</dcterms:modified>
  <cp:revision>31</cp:revision>
  <dc:subject/>
  <dc:title>Netzwerkprogrammierung  mit Protothreads</dc:title>
</cp:coreProperties>
</file>