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033-2BCC-49E7-80AA-27F5FCCA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403-3295-41C2-9DDD-C7921268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052-83AC-4E1E-B655-74E10B87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4A2-3612-44C1-94B2-10EF3809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FE9-3042-42E0-8F2D-2C85C110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721-3065-403A-BC2B-0A39386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FA6-BF5F-48DF-9584-C8D75291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9AD-ABCD-4B68-BA63-C336E68A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B85-287E-42FF-84F6-12B785F4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03C-63CB-439A-A049-A089AD60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C44-596B-48EF-A18E-C75FA52E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BD4-1B3B-41B0-B161-17FEE5DC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746A-42EE-4968-BAC6-D3CA4B5EC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zwerkprogrammier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to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entbasierte Netzwerkprogram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zwerkprogrammierung mit Proto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 ist stark an die Stackcall-struktur gekoppelt. Es ist dort nicht einfach, sich von dem normalen Funktionsaufruf zu entkopp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Möglichkeit ist setjmp/longjmp zu verwenden: nicht einfach portabel, verbraucht Speicher (speicher stack-Enviro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wir wollen, ist ein Funktion, die sich merkt, an welcher Stelle return benutzt wu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nächsten Aufruf wird an der Stelle fortgeset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. würde folgende Funktion 10 mal hintereinander aufgerufen die Werte 0, 1, 2, 3, 4, 5, 6, 7, 8, 9 zurückg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 bla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or (i=0; i &lt; 10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routines in C könnte man z.B. mit goto statements implementieren. Eine Variable merkt sich der letzte „Zustand“, und ein switch() am Anfang springt an die richtige Stelle (i ist jetzt übrigens static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unction(void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i, state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 (stat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0: goto LABEL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1: goto LABEL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BEL0: /* start of function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10; i++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= 1; /* so we will come back to LABEL1 *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BEL1: /* resume control straight after the return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st immer noch ein wenig viel Overhead (state und switch und gotos verwalten), zum Glück kann man in C switch missbrauchen, um gleich noch den goto mitzu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unction(void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i, state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 (stat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0: /* start of function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10; i++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resume control straight after the return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Makros kann man jetzt die ganze Hässlichkeit gekonnt verstec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rBegin static int state=0; switch(state) { case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rReturn(i,x) do { state=i; return x; case i:; } while (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rFinish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unction(void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Begi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10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Return(1, i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Finish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n hässlichen Parameter für crReturn können wir auch gleich durch __LINE__ ersetz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define crReturn(x) do { state=__LINE__; return x; \ case __LINE__:; } while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komprimierungsroutin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tzt kann man den Dekompressor als Routine hinschreiben, er sieht fast genauso aus wie am Anfa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ecompressor(void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 c, le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Begi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 == EOF) break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 == 0xFF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 = getchar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en--) crReturn(c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Return(c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Return(EOF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Finish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tothreads ist eine Implementierung des C-Coroutines-Trick, als Thread-library gefas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e richtigen Threads in dem Sinne, also nicht preemptives Threading, sondern kooperatives 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eder Thread muss „yielden“, wenn er nichts zu tun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Yield bei Protothreads ist einfach ein Return, jeder Thread ist eine Koroutine, und wird beim nächsten Aufruf an der vorigen Stelle weitergefüh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eder Thread speichert nur die „state“ Variable von vorhin -&gt; 2 Bytes Speicher pro „Threa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Library besteht eigentlich aus den Macros, die wir vorhin gesehen ha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-Beisp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"pt.h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pt p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timer tim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la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THREAD(example(struct pt *pt)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BEGIN(p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r_restart(&amp;time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WAIT_UNTIL(pt, timer_expired(&amp;timer)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lag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r_restart(&amp;time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WAIT_UNTIL(pt, !flag || timer_expired(&amp;time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gger_even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END(p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 API-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uct pt *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lt den jetzigen Coroutinen-Zustand fest (2 Bytes, der Stack wird nicht gespeich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INIT(struct pt *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othreads-struktur initialisieren (state Parameter zurücksetz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BEGIN(struct pt *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tch-struktur für die C-Koroutine einsetzen. Alles was vor PT_BEGIN steht wird beim jedem Thread-schedulen ausgefü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END(struct pt *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iessen einer Switch-Struktur für die C-Ko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 API-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EXIT(struct pt *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tothreads verlassen (return mit Code PT_EX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WAIT_UNTIL(struct pt *pt, 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assen mit code PT_WAITING, wenn die condition falsch. Beim nächsten Schedulen des Threads wird dieser Check auch wieder ausgefü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SPAWN(struct pt *parent, struct pt *child,  th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t den child Thread aus bis er verlass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-Beisp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ache reliable Kommunikation (mit Time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THREAD(sender(struct pt *pt)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BEGIN(p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nd_packe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_set(&amp;timer, TIMEOU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WAIT_UNTIL(pt, acknowledgment_received() ||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_expired(&amp;timer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(timer_expired(&amp;timer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END(p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-Beisp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THREAD(receiver(struct pt *pt)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BEGIN(p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WAIT_UNTIL(pt, packet_received()); send_acknowledgemen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END(p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ventbasierte Netzwerkprogram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basiertes Netzwerk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tzwerkserver in einem 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e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öffnen, bind(), liste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stening-Socket aufnehmen in Eventloop (z.B. mit select()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Connect, Clientsocket aufmachen, Socket auf NONBLOCKING setzen, in Eventloop auf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Events auf dem Clientsocket Client-State-Machine durchlau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ventbasiertes Netzwerk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spiel: SM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ent kann sein: 3 bytes angeko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emachine muss input-Buffer verwalten (erst wenn eine Zeile im Inputbuffer kann diese geparst wer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low-Control von der Applikation ist dann recht kompliziert (State für jedes Kommando, oder vorgeschalteter Tokeni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tzwerkprogrammierung mit 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 für Netz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 kann jetzt für Lesen von Netzwerkdaten eine Koroutine aufgerufen werden, die den Eingangspuffer fül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Protokollroutine kann also so hingeschrieben werden, als würde ein blockierendes Lesen pass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 muss allerdings aufpassen, dass die Inputpuffer getrennt bleiben, also pro Verbindung ein eigener Lesethread oder Schreibethread mit eigenem P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Ähnliche Probleme hat man z.B. bei Parsern, oder Code der ein Inputstream verarbeitet, und ihn weitergi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könnten wir eine Dekompressionsroutine haben, und einen 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etzwerkprogrammierungsbeispiel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(lc-test.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kompressions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Decompression code *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 == EOF) 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 == 0xFF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len--) emit(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it(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it(EO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arser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Parser code *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 == EOF) 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salpha(c)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 add_to_token(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isalpha(c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ot_token(WORD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_to_token(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ot_token(PUNC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rser und Dekomprimierer sind beide einfach zu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ch... Wie kombiniert man jetzt be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Möglichkeit ist, entweder den Parser oder den Dekomprimierer neu zu schreiben, damit er jeweils von der anderen Funktion aufgerufen werden k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kompressionsroutin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ecompressor(void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repch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reple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plen &gt; 0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len--; return repch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 == EOF) return EO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 == 0xFF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len = getcha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char = getcha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len--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pch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return 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andere Möglichkeit ist, das Programm nicht mehr so zu strukturieren, dass der eine Teil den anderen aufruft, sondern dass beide Funktionen „Koroutinen“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dem Aufruf der anderen Koroutine wird jeweils der aktuelle lokale Zustand gespeichert, und bei dem nächsten Aufruf der Koroutine wird von dem Punkt an weitergemac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989000"/>
            <a:ext cx="16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k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2781360"/>
            <a:ext cx="16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278136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34936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return repch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573360"/>
            <a:ext cx="16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k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555640" y="357336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0160" y="3213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60720" y="2852640"/>
            <a:ext cx="20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_to_tok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 = IN_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4365720"/>
            <a:ext cx="16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436572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393372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return repch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4880" y="465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t_tok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5440" y="5589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1:38:19Z</dcterms:created>
  <dc:creator>blop</dc:creator>
  <dc:description/>
  <dc:language>en-US</dc:language>
  <cp:lastModifiedBy>blop</cp:lastModifiedBy>
  <dcterms:modified xsi:type="dcterms:W3CDTF">2005-04-03T13:31:48Z</dcterms:modified>
  <cp:revision>31</cp:revision>
  <dc:subject/>
  <dc:title>Netzwerkprogrammierung  mit Protothreads</dc:title>
</cp:coreProperties>
</file>