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6D86-CF08-4CD0-AB41-B7EEE0B865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iel erklären zu dem Bi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chichte eventuell. k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lchen Stand haben wir heute? Nachsehen... Wie viele Netzte? Wie viele Nutzer? Wie viele BTS? GPRS? UMTS? HSSC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endet alles auf einmal 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 nachbearbe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73E-828A-4ADB-ABF4-0A491FC0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14-F961-4AAC-B9CB-AE90016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54D-A6CE-4277-9009-B467D974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556-6010-40DA-A7F9-02BF4461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387E-D519-4D51-835A-228CBAF1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DDB1-90EA-4462-99A3-61E08A2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0393-74AE-4B3D-B0AE-B53B6EB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A744-F88B-4FAD-9029-DB3DF47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9F7-29C8-41D6-8A11-7BA7537E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B383-0A24-4D91-85D5-3EACF55A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8786-007F-4196-AD61-0BC310E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D83-4902-4BEC-BF09-9992790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F0A-930F-4D99-846C-EB43619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1AE-48A2-4E73-80A7-298AC0D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EC9-4268-4E57-A3C9-8865718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E1BA-C75A-4D62-A93D-3129D2B2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887-9E2C-4E03-8B55-C506C7CC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CFE-34A2-4583-891F-DE96FA2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92A-C200-431E-9D43-A266B2D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FFC-9892-4AB3-862C-F36C2BB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B33-C945-4FB0-B414-0CF02F4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D0F-070F-45EE-89E9-EDC63EE4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EED-614F-426E-BBC8-52E0D54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AC1-D871-4EAE-B0E7-5725E1E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982-181A-4C55-A486-B9BCA0919BD9}" type="slidenum"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06E-0C36-42AB-B892-3D922D441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GSM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lobal System for Mobil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02760" y="57531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ril 2001 Patrick Rö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Zellurares Netz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Clusterbild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ppenbildung durch Frequenzzuteilung -&gt;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Cluster kommen alle Frequenzen 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größer ein Cluster (k groß), desto größer der Frequenzwiederholabst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2954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Netzorganis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Identifik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untry Cod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3 Dezimal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. eindeutiger Code für ein Land (BRD=2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bile Network Cod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2 Dezimal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für das Netz (01 = D1; 02 = D2; 03 = E+; 07 = Vi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Mobile Station Equipment Identi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E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5 Dez.-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 ID im Handy und im EIR gespeic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eiber führen White- / Grey- und Black-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Mobile Subscriber Identit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S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5 Dez.-Ste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nehmer ID im SIM gespeic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hält u. a. NC und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cation Area Code (16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 des Aufenthaltsbereich im N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d im Broadcast Control Channel jeder BTS regelmäßig gese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680" indent="-1641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chsel der LAC muß das Handy ein Location Update ma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Identifikatio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ll I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max. 16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 einer Zelle zusammen mit LAC national eindeu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s Station Identity Cod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 eine 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Broadcast  und Synchronisation Channel ges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545"/>
                </a:solidFill>
                <a:latin typeface="Arial"/>
              </a:rPr>
              <a:t>Logische Kanäle</a:t>
            </a:r>
            <a:endParaRPr b="0" lang="en-US" sz="40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0360" indent="-1731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ffic Channel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Sprache, Fax oder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biler B-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lf Rate (halber 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Rate (Voller 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hanced Full Rate (besserer Co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mit 2.4, 4.8, 9.6, und 14.4 k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Logische Kanäl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alisierungskanäle (mobiler D-Ka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oadcast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oadcast Control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CCH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erwaltungs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quency Correction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ization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mon Control Chann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C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 Acces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Grant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ing Channe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icated/Associated Control Channel DCCH/AC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-alone Dedicated Control Channe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D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/Slow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ociated Control Channel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CH/FAC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Physikalische Kanäl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Kanal in 8 Time-Slots getei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link 3 Slots später als Downlink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Frequenz für Up/Downlink (45 MHz Abstand)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Timeslot enthält Burst von 156.25 Bitperioden = 576.9 µ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Überblick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ichte der GSM 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s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 und Zellular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tz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und physikalische Kanä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thentifizierung, Kompression, Codierung, Verschlüsse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iming Advance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laufzeit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lots müssen präzise getroffen werde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Audio Codec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ular Pulse Excitation - Long term Predic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PE-L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e Hüllkurve + Klangparameter -&gt; Sprachsyn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705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Fehlerkorrektur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 hoch komprimiert - sehr fehleranfä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543800" cy="260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5173560"/>
            <a:ext cx="804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code: Fehlererkennung; Faltungscode: zusätzliche Redund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leaving: Schutz vor Bündelfeh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 1 Daten: Hohe Sicherung; Klasse 2: weniger 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545"/>
                </a:solidFill>
                <a:latin typeface="Arial"/>
              </a:rPr>
              <a:t>Schutz der Teilnehmeridentität</a:t>
            </a:r>
            <a:endParaRPr b="0" lang="en-US" sz="36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ung v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MS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at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M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MS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jede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ocation Upda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eu ver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ilnehmerauthentifizier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heimer Schlüssel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128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9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s Heimat Netz und 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 schickt Zufallszahl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28 Bit) a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wird von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rreversibel mit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errechnet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 berechne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benfalls und vergleicht mit der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immer im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s Heimat-Netz be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besseren Performance wird ein Satz von 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Tupeln im voraus berechnet und an das jeweilig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ese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Verschlüssel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beidseitig (Netz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ipher Ke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4 Bit) berech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metrische Verschlüsselung nach Algorithmus A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ätzlich wird noch die Frame-Nr mit in die Verschlüsselung codiert, diese wiederholt sich alle 3,5 St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link und Downlink eige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Hürden beim GSM-Sniff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dio-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uß GMSK-Modulation (Gauss-Minimum-Shift-Keying ) können -&gt; sehr, sehr teuer, ca. 150.000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davon: Uplink/ Downlink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ale 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ichteter Funk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; Interfe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leistungsregulierung, beweg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cy-Hopping (Verfahren zur Reduz. des Rayleigh-Fa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, Timing-Advance, Interleaving, Faltungsk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kodierung, Signalisierung (Kanalwechsel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4 Bit-Verschlüsselung (einzige Hoffnung: Selten mal inakt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Buchtipps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M. Mouly / M.-B. Pautet: The GSM System for Mobile Commun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Das absolute Muß für alle, die es wirklich wissen wollen. Informativ, detailliert und in Englisch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Nur bei den Autoren </a:t>
            </a:r>
            <a:r>
              <a:rPr b="0" lang="de-DE" sz="1100" spc="-1" strike="noStrike" u="sng">
                <a:solidFill>
                  <a:srgbClr val="0000ff"/>
                </a:solidFill>
                <a:uFillTx/>
                <a:latin typeface="Verdana"/>
              </a:rPr>
              <a:t>direkt erhältlich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Faxbestellungen +33 1 69 310338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2-950-71900-7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770 FF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130 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K. David / T. Benkner: Digitale Mobilfunksyste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iele wichtige Grundlagen sowie ein gutteil GSM, aber auch ein kurzer Abstecher zu anderen zellularen Netze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erlag Teubner, Stuttgart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3-519-06181-3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76,00 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38,86 EUR  ( ICH HABE DIESES BUCH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26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Verdana"/>
              </a:rPr>
              <a:t>G. Heine: GSM-Signalisierung verstehen und praktisch anwend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Ausführliche und verständliche Darstellung aller, aber auch wirklich aller Aspekte dieses Themas. Unbedingt les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275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Verlag Franzis', Poing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ISBN 3-7723-5773-3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Verdana"/>
              </a:rPr>
              <a:t>178,00 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Geschichte der GSM Entwickl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2 Groupe Spécial Mobile gegrü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7 Funktechnik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89 GSM Teil der ETSI (European Telecommunication Standarts Insit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1 Erste GSM900-Netze (D-Netze) in 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CS1800 (E-Netze) Specs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4 Datendienste werden angeb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995 Erste PCS1900-Netz in USA geht in Betr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unkwellenausb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fall: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~ 1 / L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ität: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~ 1 / L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µ</a:t>
            </a:r>
            <a:r>
              <a:rPr b="0" lang="de-DE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 2 ≤ µ ≤ 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breitungkoeffizient 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ingt durch Hindernisse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ehrwegeausbr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4538520"/>
            <a:ext cx="58672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ding (Signaldämpf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Fading (Durch Mehrwegeausbr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ow Fading (Durch Hinderni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sch im periodis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and etwa einer halben Wellen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zselektivis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stes Signal der Mehwegeausbreitung: Rice-Kanal ( Rice-F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Signal gleich stark gedämpft: Rayleigh-F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Technische Grundlag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bilfunkkanal schlechtes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 tiefe Fadinglöcher mit typischen Bitfehlerraten von 1% bis 10% (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is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dige Maßnahmen gegen Mehrfachausbrei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qualiz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mit Trainingssequenzen trainiert und trennt da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ice-Kana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störendem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wärtsfehlerkorrektur mit fehlerkorrigierenden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rate kann dadurch auf etwa 10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is 10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duz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gorithmen zur Sendleistungsrege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Duplexübertragung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equency Division Duplex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eine Frequenz für uplink und down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analogen Mobilfunk eingesetz, braucht große Hardwarefilter zur Frequenztren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 Division Duplex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wechselnd senden und empf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GSM verwendet, braucht keine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x. mögliche Bitrate dadurch halb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Vielfachzugriffstechniken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medium knapp, effiziente Nutzung sehr wich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quenzmehrfachzu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Frequenzcy Division Multiple Acce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Time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e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Code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ffcc"/>
              </a:buClr>
              <a:buSzPct val="7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umvielfachzugrif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ght? Division Multiple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47242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545"/>
                </a:solidFill>
                <a:latin typeface="Arial"/>
              </a:rPr>
              <a:t>Zellulartechnik</a:t>
            </a:r>
            <a:endParaRPr b="0" lang="en-US" sz="4400" spc="-1" strike="noStrike">
              <a:solidFill>
                <a:srgbClr val="ffc54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M 900 nur 25 MHz Bandbr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5 Kanäle á 200 kHz mit je 8 Timeslots (T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000 Sprachkanäle -&gt; zu wenig für alle in der B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z in Zellen auft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Zelle erhält eigene Frequenzm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Ab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Frequenzwiederholabstand) Frequenzen wieder benu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Übergang von eine Zelle zur nächsten während eines Gesprächs erfolg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andov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. h. automatischer Frequenzwechsel auf (freie) Frequenz der nächsten Z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8376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9:54:59Z</dcterms:created>
  <dc:creator>syrus</dc:creator>
  <dc:description/>
  <dc:language>en-US</dc:language>
  <cp:lastModifiedBy>Patrick Röder</cp:lastModifiedBy>
  <cp:lastPrinted>1904-01-01T00:00:00Z</cp:lastPrinted>
  <dcterms:modified xsi:type="dcterms:W3CDTF">2001-04-25T21:05:01Z</dcterms:modified>
  <cp:revision>64</cp:revision>
  <dc:subject/>
  <dc:title>GSM</dc:title>
</cp:coreProperties>
</file>