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C0E3-2330-4171-87B4-2725C4D1ABB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iel erklären zu dem Bi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schichte eventuell. kic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lchen Stand haben wir heute? Nachsehen... Wie viele Netzte? Wie viele Nutzer? Wie viele BTS? GPRS? UMTS? HSSC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endet alles auf einmal 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ild nachbearbe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4C14-C404-4F68-9100-DC33F809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D7F9-28F1-4A2A-B2C0-4DFDF5B0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F4DB-AD11-4377-9A25-19C0F619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2584-F166-4F9F-A11F-A1926819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50DA-9A96-4774-861C-A1519F20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EE8E-445B-4329-B9AC-75FBB9B3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90F7-68D2-43C3-BF90-4EFC64F8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BB34-64A9-43DA-BEE8-CC1ABB70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BD98-F762-4DE3-82A8-DD521A27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3E1D-32BA-46BA-AFD2-F01F62D4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9D9A-B5BD-436A-B789-1707F317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296-1821-41EB-9D77-F646D2B7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41E8-6B7E-40FB-9EF0-13C25F69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605C-5E1A-413E-9372-952C28E4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2FB2-E3DA-4471-9D40-64F634A0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6C26-B816-45DA-AD03-282457E5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D691-3657-4292-9688-78AAC842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0A67-16A5-40DD-A2F7-C4E8A51D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46D-02F4-47CE-B0FB-8473AC7B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F2D-DE15-4A2A-8CD8-7907F092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E7C-03D3-4374-A851-94F08D58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52A5-E46D-4BC5-B2DF-2776288B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FA2-D14C-4F4D-AC56-3E359989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C664-A5F1-41AB-B1AF-C6B3BC7A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457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00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114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029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943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858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772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686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" name=""/>
              <p:cNvGrpSpPr/>
              <p:nvPr/>
            </p:nvGrpSpPr>
            <p:grpSpPr>
              <a:xfrm>
                <a:off x="0" y="533520"/>
                <a:ext cx="9144000" cy="5943600"/>
                <a:chOff x="0" y="533520"/>
                <a:chExt cx="9144000" cy="5943600"/>
              </a:xfrm>
            </p:grpSpPr>
            <p:sp>
              <p:nvSpPr>
                <p:cNvPr id="22" name=""/>
                <p:cNvSpPr/>
                <p:nvPr/>
              </p:nvSpPr>
              <p:spPr>
                <a:xfrm>
                  <a:off x="0" y="533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990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1447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1905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0" y="2362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0" y="2819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0" y="3276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0" y="3733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0" y="4191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0" y="4648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0" y="5105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0" y="5562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0" y="6019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0" y="6477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" name=""/>
            <p:cNvGrpSpPr/>
            <p:nvPr/>
          </p:nvGrpSpPr>
          <p:grpSpPr>
            <a:xfrm>
              <a:off x="609480" y="6248160"/>
              <a:ext cx="7925040" cy="609480"/>
              <a:chOff x="609480" y="6248160"/>
              <a:chExt cx="7925040" cy="609480"/>
            </a:xfrm>
          </p:grpSpPr>
          <p:sp>
            <p:nvSpPr>
              <p:cNvPr id="37" name=""/>
              <p:cNvSpPr/>
              <p:nvPr/>
            </p:nvSpPr>
            <p:spPr>
              <a:xfrm flipV="1" rot="16200000">
                <a:off x="7248600" y="5549040"/>
                <a:ext cx="587160" cy="198432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V="1" rot="16200000">
                <a:off x="7507080" y="5841000"/>
                <a:ext cx="50760" cy="1981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V="1" rot="16200000">
                <a:off x="1315800" y="5549040"/>
                <a:ext cx="587160" cy="19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flipV="1" rot="16200000">
                <a:off x="1574640" y="5841000"/>
                <a:ext cx="50760" cy="1981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V="1" rot="16200000">
                <a:off x="4283640" y="5099040"/>
                <a:ext cx="587160" cy="28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6200000">
                <a:off x="4538520" y="5391720"/>
                <a:ext cx="50760" cy="2880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" name=""/>
          <p:cNvGrpSpPr/>
          <p:nvPr/>
        </p:nvGrpSpPr>
        <p:grpSpPr>
          <a:xfrm>
            <a:off x="0" y="0"/>
            <a:ext cx="9144000" cy="236520"/>
            <a:chOff x="0" y="0"/>
            <a:chExt cx="9144000" cy="236520"/>
          </a:xfrm>
        </p:grpSpPr>
        <p:pic>
          <p:nvPicPr>
            <p:cNvPr id="44" name="techstri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6160"/>
              <a:ext cx="9144000" cy="47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89000"/>
              <a:ext cx="9144000" cy="47520"/>
            </a:xfrm>
            <a:prstGeom prst="rect">
              <a:avLst/>
            </a:pr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71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9920" indent="-16488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10D2-972B-4E7A-908E-63B4B3560838}" type="slidenum">
              <a:rPr b="0" lang="en-US" sz="1400" spc="-1" strike="noStrike">
                <a:solidFill>
                  <a:srgbClr val="99cc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"/>
            <p:cNvSpPr/>
            <p:nvPr/>
          </p:nvSpPr>
          <p:spPr>
            <a:xfrm flipV="1">
              <a:off x="457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371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286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200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114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029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943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858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772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686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380880"/>
              <a:ext cx="9144000" cy="5943600"/>
              <a:chOff x="0" y="380880"/>
              <a:chExt cx="9144000" cy="594360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6324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5867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410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952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495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038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3581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124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2666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209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752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295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838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380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0" y="1676520"/>
            <a:ext cx="9144000" cy="152280"/>
          </a:xfrm>
          <a:prstGeom prst="rect">
            <a:avLst/>
          </a:pr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787920" y="-1245240"/>
            <a:ext cx="1595520" cy="7591320"/>
          </a:xfrm>
          <a:custGeom>
            <a:avLst/>
            <a:gdLst/>
            <a:ahLst/>
            <a:rect l="l" t="t" r="r" b="b"/>
            <a:pathLst>
              <a:path w="290" h="1250">
                <a:moveTo>
                  <a:pt x="0" y="2"/>
                </a:moveTo>
                <a:cubicBezTo>
                  <a:pt x="0" y="2"/>
                  <a:pt x="120" y="2"/>
                  <a:pt x="240" y="2"/>
                </a:cubicBezTo>
                <a:cubicBezTo>
                  <a:pt x="262" y="0"/>
                  <a:pt x="290" y="12"/>
                  <a:pt x="288" y="50"/>
                </a:cubicBezTo>
                <a:cubicBezTo>
                  <a:pt x="288" y="626"/>
                  <a:pt x="288" y="1202"/>
                  <a:pt x="288" y="1202"/>
                </a:cubicBezTo>
                <a:cubicBezTo>
                  <a:pt x="288" y="1232"/>
                  <a:pt x="274" y="1250"/>
                  <a:pt x="240" y="1250"/>
                </a:cubicBezTo>
                <a:cubicBezTo>
                  <a:pt x="120" y="1250"/>
                  <a:pt x="0" y="1250"/>
                  <a:pt x="0" y="1250"/>
                </a:cubicBezTo>
                <a:lnTo>
                  <a:pt x="0" y="2"/>
                </a:lnTo>
                <a:close/>
              </a:path>
            </a:pathLst>
          </a:cu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techstrip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3240" y="1752480"/>
            <a:ext cx="9147240" cy="7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D944-A546-4525-9841-CBC37BC6A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GSM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lobal System for Mobil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02760" y="575316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pril 2001 Patrick Rö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Zellurares Netz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10552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Clusterbildung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uppenbildung durch Frequenzzuteilung -&gt;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Cluster kommen alle Frequenzen 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 größer ein Cluster (k groß), desto größer der Frequenzwiederholabstand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29541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Netzorganisation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0592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Identifikation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untry Cod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3 Dezimalstel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680" indent="-1641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nat. eindeutiger Code für ein Land (BRD=26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bile Network Cod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C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2 Dezimalstel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680" indent="-1641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de für das Netz (01 = D1; 02 = D2; 03 = E+; 07 = Vi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national Mobile Station Equipment Identity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EI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15 Dez.-Stel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680" indent="-1641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 ID im Handy und im EIR gespeich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680" indent="-1641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treiber führen White- / Grey- und Black-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national Mobile Subscriber Identity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SI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15 Dez.-Stel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680" indent="-1641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ilnehmer ID im SIM gespeich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680" indent="-1641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hält u. a. NC und 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cation Area Code (16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680" indent="-1641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D des Aufenthaltsbereich im N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680" indent="-1641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rd im Broadcast Control Channel jeder BTS regelmäßig gesend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680" indent="-1641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chsel der LAC muß das Handy ein Location Update ma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Identifikation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ell I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I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max. 16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 einer Zelle zusammen mit LAC national eindeut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ses Station Identity Cod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 eine B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 Broadcast  und Synchronisation Channel gesen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545"/>
                </a:solidFill>
                <a:latin typeface="Arial"/>
              </a:rPr>
              <a:t>Logische Kanäle</a:t>
            </a:r>
            <a:endParaRPr b="0" lang="en-US" sz="40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affic Channel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Sprache, Fax oder 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biler B-K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lf Rate (halber Ka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ull Rate (Voller Ka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hanced Full Rate (besserer Cod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 mit 2.4, 4.8, 9.6, und 14.4 kbit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Logische Kanäle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gnalisierungskanäle (mobiler D-Ka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roadcast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roadcast Control Channel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CCH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Verwaltungsda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equency Correction Channel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C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nchronization Channel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mon Control Channe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C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ndom Acces Channel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cess Grant Channel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G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ging Channel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dicated/Associated Control Channel DCCH/AC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nd-alone Dedicated Control Channel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SDC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/Slow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sociated Control Channel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CCH/FAC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16292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91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Physikalische Kanäle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Kanal in 8 Time-Slots geteil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link 3 Slots später als Downlink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gene Frequenz für Up/Downlink (45 MHz Abstand)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Timeslot enthält Burst von 156.25 Bitperioden = 576.9 µ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Überblick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schichte der GSM Entwick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echnis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unk und Zellulartech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tz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ogische und physikalische Kanä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thentifizierung, Kompression, Codierung, Verschlüsse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Timing Advance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laufzeit 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DM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lots müssen präzise getroffen werden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Audio Codec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ular Pulse Excitation - Long term Predicti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PE-L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be Hüllkurve + Klangparameter -&gt; Sprachsyn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143000" y="2971800"/>
            <a:ext cx="670572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Fehlerkorrektur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 hoch komprimiert - sehr fehleranfä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7543800" cy="260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5173560"/>
            <a:ext cx="804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code: Fehlererkennung; Faltungscode: zusätzliche Redunda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rleaving: Schutz vor Bündelfehl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 1 Daten: Hohe Sicherung; Klasse 2: weniger Sich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545"/>
                </a:solidFill>
                <a:latin typeface="Arial"/>
              </a:rPr>
              <a:t>Schutz der Teilnehmeridentität</a:t>
            </a:r>
            <a:endParaRPr b="0" lang="en-US" sz="36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endung vo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MS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tat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M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MS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jedem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ocation Upda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eu verg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08660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Teilnehmerauthentifizierung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heimer Schlüssel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128 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695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es Heimat Netz und im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I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espeich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tz schickt Zufallszahl (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AND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28 Bit) a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 wird von 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rreversibel mit 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rechnet (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R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tz berechne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R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benfalls und vergleicht mit der 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wird immer im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es Heimat-Netz beha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r besseren Performance wird ein Satz von (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A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R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Tupeln im voraus berechnet und an das jeweilig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L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esend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Verschlüsselung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tel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AN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beidseitig (Netz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Cipher Key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4 Bit) berech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mmetrische Verschlüsselung nach Algorithmus A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sätzlich wird noch die Frame-Nr mit in die Verschlüsselung codiert, diese wiederholt sich alle 3,5 St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link und Downlink eige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Hürden beim GSM-Sniffen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dio-Sc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uß GMSK-Modulation (Gauss-Minimum-Shift-Keying ) können -&gt; sehr, sehr teuer, ca. 150.000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ei davon: Uplink/ Downlink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male 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ichteter Funk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; Interfere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eleistungsregulierung, beweg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quency-Hopping (Verfahren zur Reduz. des Rayleigh-Fa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chronisation, Timing-Advance, Interleaving, Faltungsk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rachkodierung, Signalisierung (Kanalwechsel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4 Bit-Verschlüsselung (einzige Hoffnung: Selten mal inakti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Buchtipps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326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Verdana"/>
              </a:rPr>
              <a:t>M. Mouly / M.-B. Pautet: The GSM System for Mobile Communic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275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Das absolute Muß für alle, die es wirklich wissen wollen. Informativ, detailliert und in Englisch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275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Nur bei den Autoren </a:t>
            </a:r>
            <a:r>
              <a:rPr b="0" lang="de-DE" sz="1100" spc="-1" strike="noStrike" u="sng">
                <a:solidFill>
                  <a:srgbClr val="0000ff"/>
                </a:solidFill>
                <a:uFillTx/>
                <a:latin typeface="Verdana"/>
              </a:rPr>
              <a:t>direkt erhältlich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275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Faxbestellungen +33 1 69 310338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ISBN 2-950-71900-7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770 FF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275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130 E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326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Verdana"/>
              </a:rPr>
              <a:t>K. David / T. Benkner: Digitale Mobilfunksyste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275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Viele wichtige Grundlagen sowie ein gutteil GSM, aber auch ein kurzer Abstecher zu anderen zellularen Netzen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275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Verlag Teubner, Stuttgart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ISBN 3-519-06181-3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76,00 D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275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38,86 EUR  ( ICH HABE DIESES BUCH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326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Verdana"/>
              </a:rPr>
              <a:t>G. Heine: GSM-Signalisierung verstehen und praktisch anwend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275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Ausführliche und verständliche Darstellung aller, aber auch wirklich aller Aspekte dieses Themas. Unbedingt les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275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Verlag Franzis', Poing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ISBN 3-7723-5773-3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178,00 D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Geschichte der GSM Entwicklung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982 Groupe Spécial Mobile gegründ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987 Funktechnik festge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989 GSM Teil der ETSI (European Telecommunication Standarts Insitu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991 Erste GSM900-Netze (D-Netze) in Betri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CS1800 (E-Netze) Specs festge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994 Datendienste werden angeb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995 Erste PCS1900-Netz in USA geht in Betri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Technische Grundlagen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unkwellenausbrei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dealfall: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ef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~ 1 / L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lität: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ef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~ 1 / L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µ</a:t>
            </a:r>
            <a:r>
              <a:rPr b="0" lang="de-DE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 2 ≤ µ ≤ 5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breitungkoeffizient 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ingt durch Hindernisse und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ehrwegeausbre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828800" y="4538520"/>
            <a:ext cx="586728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Technische Grundlagen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ding (Signaldämpfung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st Fading (Durch Mehrwegeausbreit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low Fading (Durch Hindernis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isch im periodisch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stand etwa einer halben Wellenlä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quenzselektivis F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ärkstes Signal der Mehwegeausbreitung: Rice-Kanal ( Rice-F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Signal gleich stark gedämpft: Rayleigh-F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Technische Grundlagen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bilfunkkanal schlechtes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ilweise tiefe Fadinglöcher mit typischen Bitfehlerraten von 1% bis 10% (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bis 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wedige Maßnahmen gegen Mehrfachausbreit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qualiz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mit Trainingssequenzen trainiert und trennt dami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ice-Kana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störendem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wärtsfehlerkorrektur mit fehlerkorrigierenden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hlerrate kann dadurch auf etwa 10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is 10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duzier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gorithmen zur Sendleistungsrege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Duplexübertragung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requency Division Duplex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 eine Frequenz für uplink und down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 analogen Mobilfunk eingesetz, braucht große Hardwarefilter zur Frequenztrenn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ime Division Duplex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wechselnd senden und empfa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 GSM verwendet, braucht keine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x. mögliche Bitrate dadurch halbi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Vielfachzugriffstechniken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nkmedium knapp, effiziente Nutzung sehr wicht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ffffcc"/>
              </a:buClr>
              <a:buSzPct val="70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quenzmehrfachzugriff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Frequenzcy Division Multiple Acce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DM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ffffcc"/>
              </a:buClr>
              <a:buSzPct val="70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tvielfachzugriff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Time Division Multiple Acce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DM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ffffcc"/>
              </a:buClr>
              <a:buSzPct val="70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devielfachzugriff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Code Division Multiple Acce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DM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ffffcc"/>
              </a:buClr>
              <a:buSzPct val="70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umvielfachzugriff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Sight? Division Multiple Acce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M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057400" y="4114800"/>
            <a:ext cx="47242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Zellulartechnik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SM 900 nur 25 MHz Bandbre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25 Kanäle á 200 kHz mit je 8 Timeslots (TD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1000 Sprachkanäle -&gt; zu wenig für alle in der B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tz in Zellen auftei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 Zelle erhält eigene Frequenzm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Absta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Frequenzwiederholabstand) Frequenzen wieder benu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m Übergang von eine Zelle zur nächsten während eines Gesprächs erfolg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andov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. h. automatischer Frequenzwechsel auf (freie) Frequenz der nächsten Z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483760" y="3983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19:54:59Z</dcterms:created>
  <dc:creator>syrus</dc:creator>
  <dc:description/>
  <dc:language>en-US</dc:language>
  <cp:lastModifiedBy>Patrick Röder</cp:lastModifiedBy>
  <cp:lastPrinted>1904-01-01T00:00:00Z</cp:lastPrinted>
  <dcterms:modified xsi:type="dcterms:W3CDTF">2001-04-25T21:05:01Z</dcterms:modified>
  <cp:revision>64</cp:revision>
  <dc:subject/>
  <dc:title>GSM</dc:title>
</cp:coreProperties>
</file>