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BC5F-930A-4040-85BC-940AB6474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5F25-66A4-4900-B0C1-20674844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1A2F-4A71-4CE4-8A8C-CA81035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82D5-4F30-4F4D-B36F-CBA9A92D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4498-39DF-497D-B6D4-D8ABB5CA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B748-121B-473C-919B-45C1986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B4175-CFB5-438E-8ACC-CA8E3ABB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5D64E-2B0C-4B52-BBF5-7B6F0A61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4039E-C09C-428E-AB0A-698FCC3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A60D5-2F35-45B8-8572-247D791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A5686-2711-4B6B-AFB5-BFEA406B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6DB5-4F82-4660-A239-3845CED1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AC1E-0276-48D2-833E-9B32077C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511DE-3FF2-4959-AF4E-DA2569B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FF05B-6B9D-434F-87BD-57B5058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D827D-C755-4F5C-B23C-50B34AED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2FFDE-2411-470D-B25B-EFC6D2AA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66EAD-F0A5-45AB-9921-A7AFE4BB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60FC-090E-400C-9E49-BFF2870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9ED9-3017-49FF-B640-C1B7A62D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F6E4-B652-41D3-B7F1-5082B3F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8080" y="53352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7F3F-23EA-4B00-94EE-0BF191D0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81B6-A7AC-4F63-9B65-E0D7E68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970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3791-66FB-45D0-BEAE-D93639F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1571-553F-45D5-8060-A557E37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828080"/>
            <a:ext cx="8076960" cy="4801320"/>
            <a:chOff x="762120" y="1828080"/>
            <a:chExt cx="8076960" cy="4801320"/>
          </a:xfrm>
        </p:grpSpPr>
        <p:sp>
          <p:nvSpPr>
            <p:cNvPr id="1" name=""/>
            <p:cNvSpPr/>
            <p:nvPr/>
          </p:nvSpPr>
          <p:spPr>
            <a:xfrm>
              <a:off x="762120" y="1828800"/>
              <a:ext cx="8076960" cy="480060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16200000">
              <a:off x="-1485720" y="4228920"/>
              <a:ext cx="4572000" cy="75960"/>
            </a:xfrm>
            <a:custGeom>
              <a:avLst/>
              <a:gdLst>
                <a:gd name="textAreaLeft" fmla="*/ 1194120 w 4572000"/>
                <a:gd name="textAreaRight" fmla="*/ 3377880 w 45720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6476400" y="4190760"/>
              <a:ext cx="4647960" cy="75960"/>
            </a:xfrm>
            <a:custGeom>
              <a:avLst/>
              <a:gdLst>
                <a:gd name="textAreaLeft" fmla="*/ 1213920 w 4647960"/>
                <a:gd name="textAreaRight" fmla="*/ 3434040 w 4647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5400000">
              <a:off x="4724280" y="-213444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2120" y="380880"/>
            <a:ext cx="8076960" cy="1143000"/>
            <a:chOff x="762120" y="380880"/>
            <a:chExt cx="8076960" cy="1143000"/>
          </a:xfrm>
        </p:grpSpPr>
        <p:sp>
          <p:nvSpPr>
            <p:cNvPr id="6" name=""/>
            <p:cNvSpPr/>
            <p:nvPr/>
          </p:nvSpPr>
          <p:spPr>
            <a:xfrm>
              <a:off x="762120" y="380880"/>
              <a:ext cx="8076960" cy="1143000"/>
            </a:xfrm>
            <a:prstGeom prst="roundRect">
              <a:avLst>
                <a:gd name="adj" fmla="val 12083"/>
              </a:avLst>
            </a:prstGeom>
            <a:gradFill rotWithShape="0">
              <a:gsLst>
                <a:gs pos="0">
                  <a:srgbClr val="b1c99c"/>
                </a:gs>
                <a:gs pos="100000">
                  <a:srgbClr val="98ac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5400000">
              <a:off x="4724280" y="-3581280"/>
              <a:ext cx="152640" cy="807696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52280" y="6172200"/>
            <a:ext cx="457200" cy="380880"/>
            <a:chOff x="152280" y="6172200"/>
            <a:chExt cx="457200" cy="380880"/>
          </a:xfrm>
        </p:grpSpPr>
        <p:sp>
          <p:nvSpPr>
            <p:cNvPr id="9" name=""/>
            <p:cNvSpPr/>
            <p:nvPr/>
          </p:nvSpPr>
          <p:spPr>
            <a:xfrm>
              <a:off x="152280" y="617220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632448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6477120"/>
              <a:ext cx="457200" cy="7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ftr" idx="1"/>
          </p:nvPr>
        </p:nvSpPr>
        <p:spPr>
          <a:xfrm>
            <a:off x="2133360" y="6248520"/>
            <a:ext cx="52578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2"/>
          </p:nvPr>
        </p:nvSpPr>
        <p:spPr>
          <a:xfrm>
            <a:off x="7467120" y="6308280"/>
            <a:ext cx="1219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F76-EDCA-41F2-AAC2-DE6695974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3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914400" y="6019920"/>
            <a:ext cx="7772400" cy="304560"/>
            <a:chOff x="914400" y="6019920"/>
            <a:chExt cx="7772400" cy="304560"/>
          </a:xfrm>
        </p:grpSpPr>
        <p:sp>
          <p:nvSpPr>
            <p:cNvPr id="17" name=""/>
            <p:cNvSpPr/>
            <p:nvPr/>
          </p:nvSpPr>
          <p:spPr>
            <a:xfrm>
              <a:off x="914400" y="617220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8238960" y="6172200"/>
              <a:ext cx="262080" cy="152280"/>
              <a:chOff x="8238960" y="6172200"/>
              <a:chExt cx="262080" cy="152280"/>
            </a:xfrm>
          </p:grpSpPr>
          <p:sp>
            <p:nvSpPr>
              <p:cNvPr id="19" name=""/>
              <p:cNvSpPr/>
              <p:nvPr/>
            </p:nvSpPr>
            <p:spPr>
              <a:xfrm>
                <a:off x="8238960" y="630648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307360" y="627372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377560" y="622260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48120" y="617220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"/>
            <p:cNvSpPr/>
            <p:nvPr/>
          </p:nvSpPr>
          <p:spPr>
            <a:xfrm>
              <a:off x="8120160" y="617220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" name=""/>
            <p:cNvGrpSpPr/>
            <p:nvPr/>
          </p:nvGrpSpPr>
          <p:grpSpPr>
            <a:xfrm>
              <a:off x="8577360" y="6019920"/>
              <a:ext cx="109440" cy="304560"/>
              <a:chOff x="8577360" y="6019920"/>
              <a:chExt cx="109440" cy="304560"/>
            </a:xfrm>
          </p:grpSpPr>
          <p:sp>
            <p:nvSpPr>
              <p:cNvPr id="25" name=""/>
              <p:cNvSpPr/>
              <p:nvPr/>
            </p:nvSpPr>
            <p:spPr>
              <a:xfrm>
                <a:off x="8577360" y="6019920"/>
                <a:ext cx="109440" cy="30456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77360" y="617220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" name="PlaceHolder 5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29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62120" y="304200"/>
            <a:ext cx="8076960" cy="6325200"/>
            <a:chOff x="762120" y="304200"/>
            <a:chExt cx="8076960" cy="6325200"/>
          </a:xfrm>
        </p:grpSpPr>
        <p:sp>
          <p:nvSpPr>
            <p:cNvPr id="69" name=""/>
            <p:cNvSpPr/>
            <p:nvPr/>
          </p:nvSpPr>
          <p:spPr>
            <a:xfrm>
              <a:off x="762120" y="304920"/>
              <a:ext cx="8076960" cy="632448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5400000">
              <a:off x="4724280" y="-365832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-2171520" y="3390840"/>
              <a:ext cx="5943600" cy="75960"/>
            </a:xfrm>
            <a:custGeom>
              <a:avLst/>
              <a:gdLst>
                <a:gd name="textAreaLeft" fmla="*/ 1552320 w 5943600"/>
                <a:gd name="textAreaRight" fmla="*/ 4391280 w 594360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15c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5904720" y="3390840"/>
              <a:ext cx="5790960" cy="75960"/>
            </a:xfrm>
            <a:custGeom>
              <a:avLst/>
              <a:gdLst>
                <a:gd name="textAreaLeft" fmla="*/ 1512720 w 5790960"/>
                <a:gd name="textAreaRight" fmla="*/ 4278240 w 5790960"/>
                <a:gd name="textAreaTop" fmla="*/ 19800 h 75960"/>
                <a:gd name="textAreaBottom" fmla="*/ 5616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594" y="21600"/>
                  </a:lnTo>
                  <a:lnTo>
                    <a:pt x="700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15c47"/>
                </a:gs>
                <a:gs pos="100000">
                  <a:srgbClr val="b1c9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74" name="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617220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32448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477120"/>
            <a:ext cx="45720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4"/>
          </p:nvPr>
        </p:nvSpPr>
        <p:spPr>
          <a:xfrm>
            <a:off x="2133360" y="6244920"/>
            <a:ext cx="5257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543440" y="6244920"/>
            <a:ext cx="11430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846-2878-4707-9A40-99063ECD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4400" y="3733920"/>
            <a:ext cx="7848720" cy="2438280"/>
            <a:chOff x="914400" y="3733920"/>
            <a:chExt cx="7848720" cy="2438280"/>
          </a:xfrm>
        </p:grpSpPr>
        <p:sp>
          <p:nvSpPr>
            <p:cNvPr id="85" name=""/>
            <p:cNvSpPr/>
            <p:nvPr/>
          </p:nvSpPr>
          <p:spPr>
            <a:xfrm>
              <a:off x="914400" y="3733920"/>
              <a:ext cx="784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238960" y="6019920"/>
              <a:ext cx="262080" cy="152280"/>
              <a:chOff x="8238960" y="6019920"/>
              <a:chExt cx="262080" cy="152280"/>
            </a:xfrm>
          </p:grpSpPr>
          <p:sp>
            <p:nvSpPr>
              <p:cNvPr id="87" name=""/>
              <p:cNvSpPr/>
              <p:nvPr/>
            </p:nvSpPr>
            <p:spPr>
              <a:xfrm>
                <a:off x="8238960" y="615420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07360" y="612144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77560" y="607032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448120" y="601992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1201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577360" y="5867280"/>
              <a:ext cx="109440" cy="304920"/>
              <a:chOff x="8577360" y="5867280"/>
              <a:chExt cx="109440" cy="304920"/>
            </a:xfrm>
          </p:grpSpPr>
          <p:sp>
            <p:nvSpPr>
              <p:cNvPr id="93" name=""/>
              <p:cNvSpPr/>
              <p:nvPr/>
            </p:nvSpPr>
            <p:spPr>
              <a:xfrm>
                <a:off x="8577360" y="5867280"/>
                <a:ext cx="109440" cy="30492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77360" y="60199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funktionniert das Musikklauen denn im De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1/2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55119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phase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band von verschiedener Grö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passt an das menschliche Gehö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Discrete Cosinus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eitigen von Aliasing-Eff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sierung nach psychoakustischem 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ffmankod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zaufteilung der Symb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sammenfassen der Symbole zu einem B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fangen mit seltenen Zei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tene Zeichen mit mehr Bits kod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ffmankod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438280" y="2057400"/>
            <a:ext cx="46483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Diebstahl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EG Audio Layer I, II,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III ist IS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am Fraunhofer Instit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ine verlustfreie K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endet Kenntnisse über das menschliche Ohr (Psychoakust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Psychoaku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Mensch kann nur ein Teil des Frequenzspektrums hö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434340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Psychoaku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 Mask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zähnliche Klänge kann man nur schwierig unter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te Geräusche maskieren leise Geräu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e Mask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leises Geräusch wird von einem zeitlich versetzen Geräusch mask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Psychoaku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Ste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fe Töne kann man räumlich nur schwer 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fe Frequenzen werden mono enkod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Datei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 Datei in Frames unterte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 jedem Frame ei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Datenm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en von Bits in einem Bitreser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880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3: Datei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I: 384 Samples/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II, III: 1152 Samples/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ms Audio per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strukt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58168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I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ftrennung der Eingangs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bank Filter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überlappende Frequenzbä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Samples pro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wählen von relevanten Bereic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akustik, Informationsvertei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wählen der Kodierung per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1/2 Komprim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T Filter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zbänder gleichgross (625 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 Layer 2 gibt es 36 Samples pro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5:45:01Z</dcterms:created>
  <dc:creator>Georges Bolitsch</dc:creator>
  <dc:description/>
  <dc:language>en-US</dc:language>
  <cp:lastModifiedBy>Georges Bolitsch</cp:lastModifiedBy>
  <dcterms:modified xsi:type="dcterms:W3CDTF">2002-10-10T19:07:01Z</dcterms:modified>
  <cp:revision>22</cp:revision>
  <dc:subject/>
  <dc:title>MP3 Komprimierung</dc:title>
</cp:coreProperties>
</file>