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645275" cy="9777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CEE34B-9638-458F-9A89-E3630F6123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92372F-5268-4412-9C97-3CADF020E5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222C56-895E-4CED-801D-537EBAB623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F93FFE-102D-438F-9FCF-053661020C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B05BFB-B36C-4D2B-83BB-4B05ED0CF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84EE81-F210-440C-A234-AAEEF3F66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721660-2682-4E51-BF3D-3731B189F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EBDA44-739C-4CD5-92EA-E0374C618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319560-5B27-4BC8-BA6E-532358072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F47837-79FF-405C-984C-B1D3C5B83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86280A-1392-49CE-BF41-0EBD6D906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33C200-0602-4C4D-9985-BA17BF438A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44B419-34A2-48C9-B7AE-21E899EB6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AA9471-CD4D-4FBC-9222-813463C19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8D8609-60A7-4BAB-A97F-C9AA63C05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3AE91F-F0F4-4BA0-8A0C-05FC1A8E9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55076A-6160-45E4-8604-EB689DA7E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D9C654-60AF-4963-BEC9-2309C9DCAC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5077F5-482D-40AB-935C-27EFA88747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DC20A0-76B6-49AC-9BB4-AD5D229BC3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38E0F0-2E12-4EA6-8C57-63A0823F3F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C116AA-0366-4FA4-83D2-4BFA23FAE7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E10AF6-AE86-43F7-9B99-32B06539B2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021CAC-BC11-4EB8-BC7D-827817E73C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Untitled-1" descr=""/>
          <p:cNvPicPr/>
          <p:nvPr/>
        </p:nvPicPr>
        <p:blipFill>
          <a:blip r:embed="rId2"/>
          <a:stretch/>
        </p:blipFill>
        <p:spPr>
          <a:xfrm>
            <a:off x="2133720" y="609480"/>
            <a:ext cx="5216400" cy="541044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"/>
          <p:cNvSpPr/>
          <p:nvPr/>
        </p:nvSpPr>
        <p:spPr>
          <a:xfrm>
            <a:off x="4419720" y="617220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algn="r"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algn="r"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ahoma"/>
              </a:rPr>
              <a:t>Seite </a:t>
            </a:r>
            <a:fld id="{9F3459E4-C807-4F19-A2F6-927EE2318FB6}" type="slidenum">
              <a:rPr b="0" lang="de-DE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Untitled-1" descr=""/>
          <p:cNvPicPr/>
          <p:nvPr/>
        </p:nvPicPr>
        <p:blipFill>
          <a:blip r:embed="rId2"/>
          <a:stretch/>
        </p:blipFill>
        <p:spPr>
          <a:xfrm>
            <a:off x="2133720" y="609480"/>
            <a:ext cx="5216400" cy="541044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50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1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4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2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3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4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1c1c1c"/>
                </a:solidFill>
                <a:latin typeface="Tahoma"/>
              </a:rPr>
              <a:t>Seite </a:t>
            </a:r>
            <a:fld id="{61540321-BF5D-46B3-A0D2-D004593C995B}" type="slidenum">
              <a:rPr b="0" lang="de-DE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419720" y="617220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end-of-line.de/infwesen/infoethik/index.html" TargetMode="External"/><Relationship Id="rId2" Type="http://schemas.openxmlformats.org/officeDocument/2006/relationships/hyperlink" Target="http://www.end-of-line.de/infwesen/infoethik/index.html" TargetMode="External"/><Relationship Id="rId3" Type="http://schemas.openxmlformats.org/officeDocument/2006/relationships/hyperlink" Target="http://tuxedo.org/~esr/writings/index.html" TargetMode="External"/><Relationship Id="rId4" Type="http://schemas.openxmlformats.org/officeDocument/2006/relationships/hyperlink" Target="http://tuxedo.org/~esr/writings/index.html" TargetMode="External"/><Relationship Id="rId5" Type="http://schemas.openxmlformats.org/officeDocument/2006/relationships/hyperlink" Target="http://www.tuxedo.org/jargon/" TargetMode="External"/><Relationship Id="rId6" Type="http://schemas.openxmlformats.org/officeDocument/2006/relationships/hyperlink" Target="http://www.spiegel.de/druckversion/0,1588,142968,00.html" TargetMode="External"/><Relationship Id="rId7" Type="http://schemas.openxmlformats.org/officeDocument/2006/relationships/hyperlink" Target="http://www.spiegel.de/druckversion/0,1588,135645,00.html" TargetMode="External"/><Relationship Id="rId8" Type="http://schemas.openxmlformats.org/officeDocument/2006/relationships/hyperlink" Target="http://www.spiegel.de/druckversion/0,1588,137511,00.html" TargetMode="External"/><Relationship Id="rId9" Type="http://schemas.openxmlformats.org/officeDocument/2006/relationships/hyperlink" Target="http://www.spiegel.de/druckversion/0,1588,141938,00.html" TargetMode="External"/><Relationship Id="rId10" Type="http://schemas.openxmlformats.org/officeDocument/2006/relationships/hyperlink" Target="http://www.spiegel.de/druckversion/0,1588,143102,00.html" TargetMode="External"/><Relationship Id="rId11" Type="http://schemas.openxmlformats.org/officeDocument/2006/relationships/hyperlink" Target="http://www.sicherheit-im-internet.de/" TargetMode="External"/><Relationship Id="rId1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ccc.de/" TargetMode="External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333399"/>
                </a:solidFill>
                <a:latin typeface="Tahoma"/>
              </a:rPr>
              <a:t>Vortrag: Hackerethik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295280" y="1905120"/>
            <a:ext cx="6477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Tahoma"/>
              </a:rPr>
              <a:t>Entropia e.V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(Chaos Computer Club Karlsru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Marco Kraus (marco@entropia.d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Heiko Reese (heiko@the-sprawl.d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Horst Wenske (horst.wenske@h-wenske.d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orderungen durch die ethischen Leitsätz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keine Zensu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keine präventive und/oder automatische Überwachu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keine Bewegungs- und Gewohnheitspro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kein Kryptoverbo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CA27C4-8FD9-4AB9-95CB-1E3C3525697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r Hacker als Medienbegriff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griffsverwirru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ngelnden technischen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cker als Verkaufsschlag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ördern der Ang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EADDA5-B1CB-4829-A590-C2F043FDD72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333399"/>
                </a:solidFill>
                <a:latin typeface="Tahoma"/>
              </a:rPr>
              <a:t>Das Internet als rechtsfreier Rau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Ist nur ein Med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Nicht mehr Verbrech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Verbrechen nicht leicht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EF9151-C9DB-4183-B6A5-1086C47E3F2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3_1_10" descr=""/>
          <p:cNvPicPr/>
          <p:nvPr/>
        </p:nvPicPr>
        <p:blipFill>
          <a:blip r:embed="rId1"/>
          <a:stretch/>
        </p:blipFill>
        <p:spPr>
          <a:xfrm>
            <a:off x="1295280" y="2286000"/>
            <a:ext cx="6686640" cy="3714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8C4590-BE61-4876-9021-3F8FE332CE1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333399"/>
                </a:solidFill>
                <a:latin typeface="Tahoma"/>
              </a:rPr>
              <a:t>Quellen #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Informationsfreiheit; C. Christoph, F. Engste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end-of-line.de/infwesen/infoethik/index.</a:t>
            </a:r>
            <a:r>
              <a:rPr b="0" lang="de-DE" sz="1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m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Eric Raymonds Pa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http://tuxedo.org/~esr/writings/index.</a:t>
            </a:r>
            <a:r>
              <a:rPr b="0" lang="de-DE" sz="1400" spc="-1" strike="noStrike" u="sng">
                <a:solidFill>
                  <a:srgbClr val="ff0000"/>
                </a:solidFill>
                <a:uFillTx/>
                <a:latin typeface="Tahoma"/>
                <a:hlinkClick r:id="rId4"/>
              </a:rPr>
              <a:t>htm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Jargon File; Eric Raymond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 u="sng">
                <a:solidFill>
                  <a:srgbClr val="ff0000"/>
                </a:solidFill>
                <a:uFillTx/>
                <a:latin typeface="Tahoma"/>
                <a:hlinkClick r:id="rId5"/>
              </a:rPr>
              <a:t>http://www.tuxedo.org/jargon/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Verschiedenes vom Spiegel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 u="sng">
                <a:solidFill>
                  <a:srgbClr val="ff0000"/>
                </a:solidFill>
                <a:uFillTx/>
                <a:latin typeface="Tahoma"/>
                <a:hlinkClick r:id="rId6"/>
              </a:rPr>
              <a:t>http://www.spiegel.de/druckversion/0,1588,142968,00.htm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 u="sng">
                <a:solidFill>
                  <a:srgbClr val="ff0000"/>
                </a:solidFill>
                <a:uFillTx/>
                <a:latin typeface="Tahoma"/>
                <a:hlinkClick r:id="rId7"/>
              </a:rPr>
              <a:t>http://www.spiegel.de/druckversion/0,1588,135645,00.htm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 u="sng">
                <a:solidFill>
                  <a:srgbClr val="ff0000"/>
                </a:solidFill>
                <a:uFillTx/>
                <a:latin typeface="Tahoma"/>
                <a:hlinkClick r:id="rId8"/>
              </a:rPr>
              <a:t>http://www.spiegel.de/druckversion/0,1588,137511,00.htm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 u="sng">
                <a:solidFill>
                  <a:srgbClr val="ff0000"/>
                </a:solidFill>
                <a:uFillTx/>
                <a:latin typeface="Tahoma"/>
                <a:hlinkClick r:id="rId9"/>
              </a:rPr>
              <a:t>http://www.spiegel.de/druckversion/0,1588,141938,00.htm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 u="sng">
                <a:solidFill>
                  <a:srgbClr val="ff0000"/>
                </a:solidFill>
                <a:uFillTx/>
                <a:latin typeface="Tahoma"/>
                <a:hlinkClick r:id="rId10"/>
              </a:rPr>
              <a:t>http://www.spiegel.de/druckversion/0,1588,143102,00.htm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Webseite des BMWI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 u="sng">
                <a:solidFill>
                  <a:srgbClr val="ff0000"/>
                </a:solidFill>
                <a:uFillTx/>
                <a:latin typeface="Tahoma"/>
                <a:hlinkClick r:id="rId11"/>
              </a:rPr>
              <a:t>http://www.sicherheit-im-internet.d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2E0B54-4FF8-4535-8DEB-D3F1AB26E48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333399"/>
                </a:solidFill>
                <a:latin typeface="Tahoma"/>
              </a:rPr>
              <a:t>Quellen #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Homepage des Chaos Computer Club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cc.d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ahoma"/>
              </a:rPr>
              <a:t>http://www.ccc.de/Hackerethik.html (Hackerethik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Auszug aus „Hackers“ von Stephen Lev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ahoma"/>
              </a:rPr>
              <a:t>http://www.totse.com/en/hack/introduction_to_hacking/hckrs10.htm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Brockhaus Enzyklopädie in 24 Bd. 19. Au . Mannheim : F. A. Brockhaus, 198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GNU Public Licens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ahoma"/>
              </a:rPr>
              <a:t>http://www.gnu.org/copyleft/gpl.htm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Diskussionspapier CDU: Leitlinien zur inneren Sicherhei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ahoma"/>
              </a:rPr>
              <a:t>http://www.cdu.de/politik-a-z/db-leitlinien260601.ht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Kriminalitätsstatistik 2000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ahoma"/>
              </a:rPr>
              <a:t>http://www.innenministerium.bayern.de/presse/daten/polizei/12901.ht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Interview mit Gerhard Schmid (SPD)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ahoma"/>
              </a:rPr>
              <a:t>http://www.heise.de/tp/deutsch/inhalt/te/8104/1.htm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Polizeiliche Kriminalstatistik 2000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ahoma"/>
              </a:rPr>
              <a:t>http://www.bka.de/pks/pks2000/index2.htm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586C99-EAA8-4930-9D37-811A7E77811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333399"/>
                </a:solidFill>
                <a:latin typeface="Tahoma"/>
              </a:rPr>
              <a:t>Entropia e.V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1" name="Entropia%20Anfahrt%20" descr=""/>
          <p:cNvPicPr/>
          <p:nvPr/>
        </p:nvPicPr>
        <p:blipFill>
          <a:blip r:embed="rId1"/>
          <a:stretch/>
        </p:blipFill>
        <p:spPr>
          <a:xfrm>
            <a:off x="1066680" y="3200400"/>
            <a:ext cx="3959280" cy="284796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5638680" y="3794040"/>
            <a:ext cx="3124440" cy="20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Gewerbeho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Steinstrasse 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76131 Karlsru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http://www.entropia.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180F25-537D-417F-B785-B1C8CA79681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333399"/>
                </a:solidFill>
                <a:latin typeface="Tahoma"/>
              </a:rPr>
              <a:t>Wichtig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Bitte vergessen sie alles, was sie mit dem Wort „Hacker“ assozieren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5775C5-5BC9-44AC-BFAF-80D6DA2E59C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333399"/>
                </a:solidFill>
                <a:latin typeface="Tahoma"/>
              </a:rPr>
              <a:t>Geschichtlich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961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Ursprung: MIT Tech Model Rail Club (ab 1958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Zeit der Grossrechn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Teilen knapper Resourc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„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Informationssozialismus“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Entstehung einer „Hackerkultur“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Aufkommen von PCs und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Veränderung der „Informationslandschaft“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Bildung neuer Hackersubkulturen und Ideeologi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9BF383-FF0F-47EA-9AFB-DE8BFEF24B4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333399"/>
                </a:solidFill>
                <a:latin typeface="Tahoma"/>
              </a:rPr>
              <a:t>Die Hackerethik (Levy + </a:t>
            </a:r>
            <a:r>
              <a:rPr b="0" i="1" lang="de-DE" sz="4400" spc="-1" strike="noStrike">
                <a:solidFill>
                  <a:srgbClr val="333399"/>
                </a:solidFill>
                <a:latin typeface="Tahoma"/>
              </a:rPr>
              <a:t>CCC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Der Zugang zu Computern und allem, was einem zeigen kann, wie diese Welt funktioniert, sollte unbegrenzt und vollständig sei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Alle Informationen müssen frei sei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Mißtraue Autoritäten - fördere Dezentralisierung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Beurteile einen Hacker nach dem, was er tut und nicht nach üblichen Kriterien wie Aussehen, Alter, Rasse, Geschlecht oder gesellschaftlicher Stellung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Man kann mit einem Computer Kunst und Schönheit schaffe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Computer können dein Leben zum Besseren veränder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000000"/>
                </a:solidFill>
                <a:latin typeface="Tahoma"/>
              </a:rPr>
              <a:t>Mülle nicht in den Daten anderer Le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000000"/>
                </a:solidFill>
                <a:latin typeface="Tahoma"/>
              </a:rPr>
              <a:t>Öffentliche Daten nützen, private Daten schütze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C2E79A-F41E-423B-B988-C484C20A02B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90720" y="6170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333399"/>
                </a:solidFill>
                <a:latin typeface="Tahoma"/>
              </a:rPr>
              <a:t>Hacker – Cracker - Scriptkiddi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Hacker: „No Hacking for Money“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Cracker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Hacker ohne Moral/Ethik?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Scriptkiddi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„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lowest form of crackers“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Vandalen ohne Technikverständni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Nutzung von bekannten Techniken/Sicherkeitslück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8565B9-3A84-4454-97CF-8137A23492C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333399"/>
                </a:solidFill>
                <a:latin typeface="Tahoma"/>
              </a:rPr>
              <a:t>Regulierende und schützende Funktion von Hacker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Was für Möglichkeiten bietet eine neue Technologie oder Softwa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Beschränkungen überwinden bzw. neue Funkitonalitäten entdecke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Kontrollierendes Organ (z.B. Was tut eine Software wirklich alles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A5A090-7E45-49BC-B728-E0A82736964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333399"/>
                </a:solidFill>
                <a:latin typeface="Tahoma"/>
              </a:rPr>
              <a:t>Konflikt: Informieren ohne zu schade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Verantwortungsvoller Umgang mit Information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Wissen wird geteilt (Community z.B. Bugtraq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Fair Play (z.B. gegenüber den Hersteller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Neues Wissen/Programme von Hackern kann missbraucht werden (z.B. von Skript Kiddi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Fehler müssen häufig öffentlich demonstriert werden, damit sie auch beseitigt werde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FAB899-3BE8-4929-9E65-CD543DE8BF2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333399"/>
                </a:solidFill>
                <a:latin typeface="Tahoma"/>
              </a:rPr>
              <a:t>Open Sour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Der Quellcode des Programms wird zur Verfügung gestel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Man kann individuelle Anpassungen vornehm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Man kann überprüfen, was ein Programm wirklich tu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B728D7-37C2-49A5-ADB1-E379ED702D3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333399"/>
                </a:solidFill>
                <a:latin typeface="Tahoma"/>
              </a:rPr>
              <a:t>Open Source Beispiel:</a:t>
            </a:r>
            <a:br>
              <a:rPr sz="4000"/>
            </a:br>
            <a:r>
              <a:rPr b="0" lang="de-DE" sz="4000" spc="-1" strike="noStrike">
                <a:solidFill>
                  <a:srgbClr val="333399"/>
                </a:solidFill>
                <a:latin typeface="Tahoma"/>
              </a:rPr>
              <a:t>GPL (GNU General Public Licen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Freedom to share/modify and change fre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Free Software bedeutet nicht, dass das Produkt nichts kosten dar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Copyright bleibt besteh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Das Ausführen des Programms wird nicht eingeschränk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Keine Garantie für das Produk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Benutzer akzeptiert implizit die Lizen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„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Einmal GPL immer GPL“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Wird das Produkt modifiziert, muss der modifzierte Quellcode und nötige Dokumentation/Werkzeuge zur Verfügung gestellt werden (wieder GP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1A6EC1-F992-4C55-95BB-18C346C15F6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04T16:17:06Z</dcterms:created>
  <dc:creator>Heiko Reese</dc:creator>
  <dc:description/>
  <dc:language>en-US</dc:language>
  <cp:lastModifiedBy>Heiko Reese</cp:lastModifiedBy>
  <dcterms:modified xsi:type="dcterms:W3CDTF">2001-07-05T20:45:22Z</dcterms:modified>
  <cp:revision>46</cp:revision>
  <dc:subject/>
  <dc:title>Hackerethik Vortrag des Entropia e.V.</dc:title>
</cp:coreProperties>
</file>