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CE9B-8DF5-4E96-8AB8-59F6CC286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A2FA1-69C0-419F-B4C3-E65A9FC57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3311-594B-4D5B-B301-B176DFCA8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9ADB-280A-4CE6-ABC3-8DF56A970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BCCB0-60DD-4586-904A-091866C3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7D39E-B0BD-44C8-898F-6BF00A86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3A9B2-1420-4F35-A2EF-8477A366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685EC-47F6-40A5-84E4-33731841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692AE-2C79-41E3-9674-69B821C1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AAE08-1B72-4498-A644-3854CD2F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1030A-28F0-42A5-9844-999FAA49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8DFA-0B30-4E2A-8D35-CB9F571CD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303F1-89DB-47A3-8B9A-DCCB1E14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97D50-45C8-43BE-B5C5-FD2C5208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B695C-C736-4FBD-ABB3-BD9AC3F5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96371-E25A-4A38-9B25-0B144418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C25C4-F001-4918-9B4C-549F5201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FF2E-09C1-4A9B-9BB5-201AFC975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8854-2B13-4054-9DB3-A58AA73D5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55C1-F9E3-4439-A408-79209F5C6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43B4-C48F-4253-A0E8-77899BA1C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494C-337D-4D88-B966-723D90931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BBF3-EE52-4B28-AE23-11DE3FEAD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32E9-8238-4602-A478-E07933E84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Untitled-1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216400" cy="5410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4419720" y="61722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Seite </a:t>
            </a:r>
            <a:fld id="{946A5499-4E12-4FB1-BC0F-CC5A2C9DBFB8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ntitled-1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216400" cy="5410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Seite </a:t>
            </a:r>
            <a:fld id="{B943138F-470C-48EC-8DDD-6B5E03CD6914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61722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nd-of-line.de/infwesen/infoethik/index.html" TargetMode="External"/><Relationship Id="rId2" Type="http://schemas.openxmlformats.org/officeDocument/2006/relationships/hyperlink" Target="http://www.end-of-line.de/infwesen/infoethik/index.html" TargetMode="External"/><Relationship Id="rId3" Type="http://schemas.openxmlformats.org/officeDocument/2006/relationships/hyperlink" Target="http://tuxedo.org/~esr/writings/index.html" TargetMode="External"/><Relationship Id="rId4" Type="http://schemas.openxmlformats.org/officeDocument/2006/relationships/hyperlink" Target="http://tuxedo.org/~esr/writings/index.html" TargetMode="External"/><Relationship Id="rId5" Type="http://schemas.openxmlformats.org/officeDocument/2006/relationships/hyperlink" Target="http://www.tuxedo.org/jargon/" TargetMode="External"/><Relationship Id="rId6" Type="http://schemas.openxmlformats.org/officeDocument/2006/relationships/hyperlink" Target="http://www.spiegel.de/druckversion/0,1588,142968,00.html" TargetMode="External"/><Relationship Id="rId7" Type="http://schemas.openxmlformats.org/officeDocument/2006/relationships/hyperlink" Target="http://www.spiegel.de/druckversion/0,1588,135645,00.html" TargetMode="External"/><Relationship Id="rId8" Type="http://schemas.openxmlformats.org/officeDocument/2006/relationships/hyperlink" Target="http://www.spiegel.de/druckversion/0,1588,137511,00.html" TargetMode="External"/><Relationship Id="rId9" Type="http://schemas.openxmlformats.org/officeDocument/2006/relationships/hyperlink" Target="http://www.spiegel.de/druckversion/0,1588,141938,00.html" TargetMode="External"/><Relationship Id="rId10" Type="http://schemas.openxmlformats.org/officeDocument/2006/relationships/hyperlink" Target="http://www.spiegel.de/druckversion/0,1588,143102,00.html" TargetMode="External"/><Relationship Id="rId11" Type="http://schemas.openxmlformats.org/officeDocument/2006/relationships/hyperlink" Target="http://www.sicherheit-im-internet.de/" TargetMode="External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cc.de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Vortrag: Hackereth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Entropia e.V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Chaos Computer Club Karlsru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rco Kraus (marco@entropia.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eiko Reese (heiko@the-sprawl.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orst Wenske (horst.wenske@h-wenske.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derungen durch die ethischen Leitsät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eine Zens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eine präventive und/oder automatische Überwach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eine Bewegungs- und Gewohnheits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ein Kryptoverb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BA7D-B60A-427D-8BA8-D299F9C3A8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r Hacker als Medienbegri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riffsverwir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gelnden technischen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cker als Verkaufsschl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ördern der Ang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7FDB-5A75-45CC-A50D-CC45775C06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Das Internet als rechtsfreier Ra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st nur ein Med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icht mehr Verbrec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brechen nicht leich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65B9-906C-4D6F-963C-2691DA5B72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3_1_10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686640" cy="37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29D1-BFA9-4B69-81BE-F6506D57B5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Quellen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nformationsfreiheit; C. Christoph, F. Engs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end-of-line.de/infwesen/infoethik/index.</a:t>
            </a: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Eric Raymonds Pa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tuxedo.org/~esr/writings/index.</a:t>
            </a: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Jargon File; Eric Raymo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http://www.tuxedo.org/jargon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Verschiedenes vom Spiegel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http://www.spiegel.de/druckversion/0,1588,142968,00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http://www.spiegel.de/druckversion/0,1588,135645,00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http://www.spiegel.de/druckversion/0,1588,137511,00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http://www.spiegel.de/druckversion/0,1588,141938,00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http://www.spiegel.de/druckversion/0,1588,143102,00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Webseite des BMW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http://www.sicherheit-im-internet.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D0B4-99F7-42FA-8A63-765846C929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Quellen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omepage des Chaos Computer Clu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cc.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www.ccc.de/Hackerethik.html (Hackerethi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Auszug aus „Hackers“ von Stephen Lev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www.totse.com/en/hack/introduction_to_hacking/hckrs10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Brockhaus Enzyklopädie in 24 Bd. 19. Au . Mannheim : F. A. Brockhaus, 198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GNU Public Licen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www.gnu.org/copyleft/gpl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iskussionspapier CDU: Leitlinien zur inneren Sicherhe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www.cdu.de/politik-a-z/db-leitlinien260601.ht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riminalitätsstatistik 2000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www.innenministerium.bayern.de/presse/daten/polizei/12901.ht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nterview mit Gerhard Schmid (SPD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www.heise.de/tp/deutsch/inhalt/te/8104/1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Polizeiliche Kriminalstatistik 2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www.bka.de/pks/pks2000/index2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FA46-9864-4786-B3C3-383F2D7CED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Entropia e.V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Entropia%20Anfahrt%20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3959280" cy="2847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638680" y="3794040"/>
            <a:ext cx="31244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ewerbeh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einstrasse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76131 Karlsr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ttp://www.entropia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FA8D-CF1C-4AEB-A572-10D6464842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Wichtig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itte vergessen sie alles, was sie mit dem Wort „Hacker“ assozier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2610-A8C8-4111-88A0-22558FC8F8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Geschichtlich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rsprung: MIT Tech Model Rail Club (ab 195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eit der Grossrech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ilen knapper Resourc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formationssozialismus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stehung einer „Hackerkultur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fkommen von PCs und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änderung der „Informationslandschaft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ildung neuer Hackersubkulturen und Ideeolog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E25E-F4FE-49C7-BCD7-AB0E1516E7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Die Hackerethik (Levy + </a:t>
            </a:r>
            <a:r>
              <a:rPr b="0" i="1" lang="de-DE" sz="4400" spc="-1" strike="noStrike">
                <a:solidFill>
                  <a:srgbClr val="333399"/>
                </a:solidFill>
                <a:latin typeface="Tahoma"/>
              </a:rPr>
              <a:t>CC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r Zugang zu Computern und allem, was einem zeigen kann, wie diese Welt funktioniert, sollte unbegrenzt und vollständig se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lle Informationen müssen frei se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ißtraue Autoritäten - fördere Dezentralisieru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urteile einen Hacker nach dem, was er tut und nicht nach üblichen Kriterien wie Aussehen, Alter, Rasse, Geschlecht oder gesellschaftlicher Stellu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n kann mit einem Computer Kunst und Schönheit schaff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mputer können dein Leben zum Besseren veränder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Mülle nicht in den Daten anderer Le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Öffentliche Daten nützen, private Daten schütz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1E64-80E0-4D70-AED4-E1604B8C85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Hacker – Cracker - Scriptkid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acker: „No Hacking for Money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rack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acker ohne Moral/Ethik?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riptkiddi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owest form of crackers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andalen ohne Technikverständni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utzung von bekannten Techniken/Sicherkeitslü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7A09-B5A7-4573-9E28-7F7CF538FF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Regulierende und schützende Funktion von Hacker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s für Möglichkeiten bietet eine neue Technologie oder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schränkungen überwinden bzw. neue Funkitonalitäten entdeck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ntrollierendes Organ (z.B. Was tut eine Software wirklich alles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0E25-2A9B-4D1D-B8EA-796BC7C915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Konflikt: Informieren ohne zu scha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erantwortungsvoller Umgang mit Informatio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ssen wird geteilt (Community z.B. Bugtraq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air Play (z.B. gegenüber den Hersteller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eues Wissen/Programme von Hackern kann missbraucht werden (z.B. von Skript Kidd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ehler müssen häufig öffentlich demonstriert werden, damit sie auch beseitigt wer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195D-9F81-4C9F-BD48-7AE5F71723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Open Sour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r Quellcode des Programms wird zur Verfügung gestel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n kann individuelle Anpassungen vorneh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n kann überprüfen, was ein Programm wirklich t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AE38-49A4-488C-B8D9-B8F623C636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Open Source Beispiel: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GPL (GNU General Public Licen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reedom to share/modify and change fre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ree Software bedeutet nicht, dass das Produkt nichts kosten dar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pyright bleibt beste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Ausführen des Programms wird nicht eingeschrän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eine Garantie für das Produ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 akzeptiert implizit die Lizen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mal GPL immer GPL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rd das Produkt modifiziert, muss der modifzierte Quellcode und nötige Dokumentation/Werkzeuge zur Verfügung gestellt werden (wieder GP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6674-DAA1-45FB-81BC-5C76B23D5F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4T16:17:06Z</dcterms:created>
  <dc:creator>Heiko Reese</dc:creator>
  <dc:description/>
  <dc:language>en-US</dc:language>
  <cp:lastModifiedBy>Heiko Reese</cp:lastModifiedBy>
  <dcterms:modified xsi:type="dcterms:W3CDTF">2001-07-05T20:45:22Z</dcterms:modified>
  <cp:revision>46</cp:revision>
  <dc:subject/>
  <dc:title>Hackerethik Vortrag des Entropia e.V.</dc:title>
</cp:coreProperties>
</file>